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media/image8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3A874-1D4F-4871-A66A-A04C6749B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A6687-CBFD-4ECD-B96C-BA0562103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23C0F-7EDD-43DB-B86E-666C91C49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AB99B-9B0F-432B-BFDD-0AD53221E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B45AD-279F-4418-ACF8-61C7FC221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0BB14-33AB-45BC-89B7-90F57B2C1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7CF88-D539-4B44-B53F-0C710A627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83078-38EA-49D5-8976-15BA88BCE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606FD-59FF-4DC8-9E79-7088D4465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E6252-8018-4943-8ED3-84E6318DB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3E935-409F-46A3-90BA-A3BF08636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6725A-8455-4DDC-930B-AFEFEFE01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9A3F5-5B6B-4B3A-9DDE-A6A250EBC3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hyperlink" Target="http://www.sonofthesouth.net/leefoundation/battle-fort-sumter.htm" TargetMode="External"/><Relationship Id="rId3" Type="http://schemas.openxmlformats.org/officeDocument/2006/relationships/hyperlink" Target="http://en.wikipedia.org/wiki/Fort_Sumter" TargetMode="External"/><Relationship Id="rId4" Type="http://schemas.openxmlformats.org/officeDocument/2006/relationships/hyperlink" Target="http://www.nps.gov/hps/abpp/battles/sc001.htm" TargetMode="External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11160"/>
            <a:ext cx="9144000" cy="68691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French Script MT"/>
              </a:rPr>
              <a:t>Fort Sumter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Jokerman"/>
              </a:rPr>
              <a:t>By: Ben Inscore and Dillon Shaff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Important Things to Rememb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he fort had been evacuated, not surrendere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Union forces kept the flag flying</a:t>
            </a:r>
            <a:r>
              <a:rPr b="0" lang="en-US" sz="3200" spc="-1" strike="noStrike">
                <a:solidFill>
                  <a:srgbClr val="66ff33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8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8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8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8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sonofthesouth.net/leefoundation/battle-fort-sumter.ht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en.wikipedia.org/wiki/Fort_Sum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www.nps.gov/hps/abpp/battles/sc001.ht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833 0.02682 0.0026 -0.00324 -0.00955 0.01687 C -0.01233 0.0215 -0.01458 0.03167 -0.0191 0.03607 C -0.02743 0.04393 -0.03628 0.05086 -0.04444 0.05919 C -0.04774 0.06266 -0.05017 0.06751 -0.05399 0.06982 C -0.06979 0.07907 -0.08924 0.08439 -0.10642 0.08878 C -0.13559 0.08277 -0.13351 0.08878 -0.1493 0.06774 C -0.15365 0.0326 -0.15937 -0.00301 -0.1651 -0.03792 C -0.16424 -0.05341 -0.16389 -0.09665 -0.15712 -0.1163 C -0.1375 -0.17341 -0.09167 -0.18659 -0.0493 -0.19029 C -0.03403 -0.18821 -0.01858 -0.18706 -0.0033 -0.18382 C 0.01302 -0.18035 0.03299 -0.16417 0.04583 -0.1563 C 0.11979 -0.11191 0.19288 -0.05388 0.23802 0.03815 C 0.25 0.08855 0.24688 0.06427 0.24913 0.11005 C 0.24705 0.12786 0.24445 0.16624 0.23333 0.17757 C 0.21701 0.19398 0.20833 0.21734 0.19045 0.2326 C 0.18767 0.23491 0.18403 0.23491 0.1809 0.23676 C 0.14514 0.25803 0.17292 0.24763 0.1349 0.25803 C 0.12066 0.25618 0.10538 0.25872 0.09201 0.25156 C 0.05469 0.23121 0.02431 0.18427 0.00156 0.14173 C -0.00399 0.13156 -0.01545 0.0978 -0.01753 0.09318 C -0.02552 0.07514 -0.03715 0.05965 -0.04288 0.04023 C -0.04705 0.02635 -0.05399 -0.00208 -0.05399 -0.00208 C -0.05035 -0.04208 -0.05573 -0.04417 -0.02708 -0.04 C -0.0118 -0.02521 -0.00694 -0.000470000000000002 0.00625 0.01687 C 0.03281 0.05225 0.04375 0.06312 0.07622 0.08254 C 0.09497 0.09364 0.11632 0.0941 0.13646 0.09942 C 0.1592 0.09757 0.18403 0.10358 0.20469 0.09086 C 0.23212 0.07398 0.24896 0.04716 0.26181 0.01271 C 0.2592 -0.00833 0.25729 -0.0296 0.25399 -0.05064 C 0.2467 -0.0955 0.22222 -0.11769 0.19514 -0.14151 C 0.19254 -0.14382 0.18872 -0.14313 0.18559 -0.14359 C 0.17708 -0.14474 0.16875 -0.14521 0.16024 -0.1459 C 0.14653 -0.14521 0.13247 -0.14636 0.11892 -0.14359 C 0.02135 -0.1237 -0.06285 0.02566 -0.12066 0.11838 C -0.20035 0.24624 -0.13924 0.17641 -0.19375 0.23468 C -0.20399 0.24578 -0.26649 0.25503 -0.27153 0.25595 C -0.35625 0.23653 -0.35035 0.24693 -0.40955 0.19445 C -0.43368 0.13896 -0.41701 0.08 -0.4 0.02543 C -0.38819 -0.01226 -0.3526 -0.07445 -0.34444 -0.09087 C -0.3375 -0.10474 -0.29201 -0.17919 -0.27778 -0.19654 C -0.27014 -0.20578 -0.26042 -0.21133 -0.25243 -0.21989 C -0.21927 -0.25503 -0.2184 -0.26151 -0.17621 -0.26844 C -0.14236 -0.26497 -0.10833 -0.26336 -0.07465 -0.25781 C -0.05191 -0.25411 0.01476 -0.21457 0.02066 -0.21133 C 0.07865 -0.17804 0.13229 -0.13642 0.17778 -0.07815 C 0.20885 -0.03839 0.22708 0.000460000000000002 0.2507 0.04647 C 0.2566 0.0578 0.26094 0.07075 0.26823 0.08046 C 0.2724 0.08624 0.28247 0.09526 0.28247 0.09526 C 0.28941 0.09179 0.29653 0.08901 0.30313 0.08462 C 0.31806 0.07468 0.3283 0.05341 0.33802 0.03607 C 0.35538 0.00531 0.36146 -0.00856 0.37135 -0.0444 C 0.3724 -0.05434 0.37448 -0.06405 0.37448 -0.07399 C 0.37448 -0.08463 0.36285 -0.11954 0.36181 -0.12255 C 0.34514 -0.1718 0.3125 -0.19145 0.27934 -0.2155 C 0.27604 -0.21804 0.27344 -0.22243 0.26979 -0.22405 C 0.25052 -0.23214 0.22292 -0.23399 0.20313 -0.23677 C 0.18507 -0.2333 0.16684 -0.23168 0.14913 -0.22613 C 0.07153 -0.20162 0.00399 -0.13619 -0.04601 -0.0548 C -0.08924 0.01549 -0.11302 0.09364 -0.14444 0.17341 C -0.1566 0.20393 -0.15851 0.21711 -0.18264 0.2474 C -0.20764 0.27884 -0.25712 0.31792 -0.28889 0.33618 C -0.29479 0.33965 -0.30174 0.33872 -0.30799 0.34034 C -0.3224 0.34427 -0.33663 0.3489 -0.35087 0.35306 C -0.39792 0.34173 -0.40365 0.35098 -0.43021 0.31075 C -0.44392 0.20023 -0.37413 0.09919 -0.33021 0.01687 C -0.29948 -0.0407 -0.2691 -0.10844 -0.23177 -0.15839 C -0.21597 -0.17966 -0.19878 -0.19931 -0.1842 -0.22197 C -0.16371 -0.25365 -0.14549 -0.27469 -0.11753 -0.29156 C -0.0868 -0.28948 -0.05521 -0.2955 -0.02552 -0.28532 C 0.00608 -0.27469 0.03368 -0.24833 0.06337 -0.23029 C 0.13542 -0.18636 0.21076 -0.11168 0.23958 -0.01041 C 0.24427 0.02728 0.24809 0.07607 0.27622 0.09526 C 0.2901 0.09294 0.29271 0.09618 0.30156 0.07607 C 0.30868 0.06011 0.31892 0.02543 0.31892 0.02543 C 0.32465 -0.02266 0.32691 -0.02151 0.32066 -0.07815 C 0.31788 -0.10382 0.29149 -0.14729 0.28559 -0.15839 C 0.27326 -0.18128 0.24809 -0.20602 0.2349 -0.21989 C 0.1901 -0.26729 0.17031 -0.28301 0.11267 -0.28948 C 0.06198 -0.28116 0.02517 -0.22844 -0.00955 -0.18382 C -0.05469 -0.12578 -0.08524 -0.07445 -0.1033 0.00439 C -0.10486 0.01988 -0.10903 0.03537 -0.10799 0.05086 C -0.10278 0.12786 -0.04826 0.18543 0 0.21572 C 0.02639 0.23237 0.05695 0.23167 0.08559 0.23884 C 0.12431 0.2319 0.1632 0.22705 0.20156 0.2178 C 0.22222 0.21271 0.23715 0.18797 0.25399 0.17133 C 0.3151 0.11098 0.33854 0.00439000000000001 0.36024 -0.08671 C 0.36163 -0.12648 0.36441 -0.12763 0.35712 -0.16278 C 0.35486 -0.17411 0.33333 -0.17758 0.33333 -0.17758 C 0.29601 -0.17272 0.28576 -0.15677 0.26024 -0.11839 C 0.2507 -0.08602 0.2441 -0.05318 0.23958 -0.01896 C 0.2401 0.00716 0.23698 0.03375 0.24115 0.05919 C 0.24566 0.08624 0.28125 0.17063 0.29358 0.19029 C 0.30695 0.21179 0.31979 0.23815 0.33958 0.2474 C 0.35017 0.25225 0.37135 0.26219 0.37135 0.26219 C 0.37934 0.25803 0.38767 0.25503 0.39514 0.24948 C 0.40833 0.23977 0.4151 0.21872 0.42222 0.20092 C 0.43976 0.15699 0.4434 0.14057 0.45399 0.1015 C 0.46198 0.02797 0.46615 -0.03122 0.46979 -0.10567 C 0.45747 -0.17041 0.43212 -0.23584 0.40469 -0.29156 C 0.4007 -0.29943 0.39462 -0.30497 0.38889 -0.31076 C 0.35729 -0.3422 0.29583 -0.40532 0.25399 -0.41642 C 0.24201 -0.41966 0.22951 -0.41919 0.21736 -0.42058 C 0.15781 -0.40301 0.18767 -0.41642 0.12847 -0.37827 C 0.09445 -0.3563 0.07413 -0.31792 0.04445 -0.28948 C 0.03351 -0.26035 0.02899 -0.25573 0.02691 -0.22405 C 0.02448 -0.18891 0.06302 -0.15885 0.08403 -0.14798 C 0.08906 -0.14544 0.09462 -0.14659 0.1 -0.1459 C 0.1191 -0.14729 0.13837 -0.14544 0.15712 -0.15006 C 0.19566 -0.15977 0.22726 -0.197 0.25399 -0.23237 C 0.25764 -0.24786 0.26788 -0.26313 0.2651 -0.27908 C 0.26198 -0.29734 0.26024 -0.31607 0.25556 -0.33388 C 0.2526 -0.34544 0.22778 -0.35307 0.22066 -0.35515 C 0.15712 -0.35237 0.16927 -0.35723 0.09201 -0.32555 C -0.00191 -0.28717 -0.07031 -0.26266 -0.1349 -0.1607 C -0.13594 -0.15422 -0.13889 -0.14798 -0.13819 -0.14151 C -0.13611 -0.1207 -0.13316 -0.09966 -0.12708 -0.08023 C -0.12535 -0.07469 -0.11996 -0.0726 -0.11597 -0.0696 C -0.05469 -0.02359 -0.08038 -0.03492 -0.01441 -0.0296 C 0.03594 -0.04162 0.09688 -0.0518 0.12535 -0.1163 C 0.12691 -0.12625 0.13021 -0.13573 0.13004 -0.1459 C 0.12813 -0.22428 0.07188 -0.23191 0.02691 -0.24093 C -0.10174 -0.23469 -0.12934 -0.23908 -0.23021 -0.20925 C -0.24566 -0.19769 -0.25885 -0.19654 -0.26198 -0.1755 C -0.2401 -0.14197 -0.22865 -0.15006 -0.19045 -0.14151 C -0.11736 -0.14752 -0.08611 -0.14405 -0.02066 -0.16694 C -0.00139 -0.17365 0.01441 -0.19191 0.03177 -0.20509 C 0.03785 -0.21457 0.05087 -0.23353 0.05226 -0.24509 C 0.05747 -0.28717 0.03368 -0.32116 0.00955 -0.34243 C 0.00295 -0.34821 -0.00538 -0.34914 -0.01267 -0.35307 C -0.10156 -0.3385 -0.17812 -0.34151 -0.24132 -0.24717 C -0.24253 -0.23862 -0.24583 -0.21919 -0.24444 -0.21341 C -0.23108 -0.15769 -0.17396 -0.14544 -0.13819 -0.13734 C -0.07795 -0.15492 -0.08924 -0.14567 -0.04774 -0.19445 C -0.02083 -0.25827 -0.02639 -0.22706 -0.02378 -0.28532 C -0.02708 -0.30313 -0.02656 -0.3237 -0.0349 -0.33827 C -0.05278 -0.36925 -0.07691 -0.38012 -0.10486 -0.38474 C -0.17309 -0.37989 -0.24305 -0.3859 -0.30799 -0.35307 C -0.32465 -0.34474 -0.33976 -0.3318 -0.35555 -0.32116 C -0.37986 -0.27746 -0.37378 -0.29688 -0.38108 -0.26844 C -0.37899 -0.2585 -0.3776 -0.24833 -0.37465 -0.23885 C -0.36823 -0.21896 -0.31233 -0.17919 -0.29844 -0.1711 C -0.28003 -0.16023 -0.25833 -0.16578 -0.23819 -0.16486 C -0.22222 -0.16833 -0.20608 -0.17041 -0.19045 -0.1755 C -0.16198 -0.18474 -0.13316 -0.23885 -0.12378 -0.2726 C -0.1224 -0.28417 -0.11788 -0.29758 -0.12865 -0.3022 C -0.22656 -0.29827 -0.31649 -0.26128 -0.4 -0.19237 C -0.41684 -0.15492 -0.41493 -0.16717 -0.3842 -0.1311 C -0.37257 -0.11746 -0.35486 -0.117 -0.33976 -0.11191 C -0.30833 -0.10128 -0.27517 -0.10544 -0.24288 -0.10359 C -0.20382 -0.10983 -0.16458 -0.11492 -0.12552 -0.12255 C -0.08854 -0.12995 -0.0559 -0.15584 -0.02066 -0.1711 C 0.00243 -0.20185 0.00695 -0.20162 0.01424 -0.24093 C 0.01267 -0.25226 0.01267 -0.26405 0.00955 -0.27469 C 0.00365 -0.29457 -0.01337 -0.30729 -0.02708 -0.31492 C -0.04826 -0.31145 -0.06927 -0.30752 -0.09045 -0.30428 C -0.09635 -0.30336 -0.10243 -0.30474 -0.10799 -0.3022 C -0.14462 -0.28532 -0.20347 -0.25457 -0.22552 -0.20925 C -0.23142 -0.197 -0.23611 -0.18382 -0.24132 -0.1711 C -0.23976 -0.1563 -0.24132 -0.14035 -0.23663 -0.12671 C -0.22135 -0.08278 -0.16163 -0.0259 -0.12865 -0.01688 C -0.10573 -0.01064 -0.08194 -0.00925 -0.05885 -0.00417 C -0.04965 -0.00208 -0.0408 0.00161 -0.03177 0.00439 C 0.02379 0.00161 0.07969 0.00393 0.1349 -0.00417 C 0.1901 -0.01226 0.22604 -0.06821 0.24288 -0.13318 C 0.24028 -0.18798 0.24705 -0.2148 0.21736 -0.24948 C 0.2099 -0.25827 0.19392 -0.25781 0.18403 -0.25989 C 0.16129 -0.25642 0.13802 -0.25665 0.1158 -0.24948 C 0.09809 -0.24393 0.0651 -0.22197 0.0651 -0.22197 C 0.05087 -0.20625 0.0408 -0.20162 0.03802 -0.1755 C 0.04861 -0.12902 0.05226 -0.10289 0.09045 -0.0844 C 0.10208 -0.07885 0.12535 -0.06752 0.12535 -0.06752 C 0.13385 -0.07029 0.14323 -0.07029 0.1507 -0.07607 C 0.15486 -0.07931 0.17257 -0.11284 0.17622 -0.12047 C 0.17847 -0.12532 0.18056 -0.13018 0.18247 -0.13526 C 0.18316 -0.13734 0.18559 -0.14104 0.18403 -0.14151 C 0.18073 -0.14243 0.1776 -0.13873 0.17448 -0.13734 C 0.15712 -0.12162 0.13698 -0.10151 0.12535 -0.07815 C 0.12431 -0.0726 0.1224 -0.06706 0.12222 -0.06128 C 0.12188 -0.05341 0.12135 -0.04509 0.12379 -0.03792 C 0.13038 -0.01896 0.15174 -0.02012 0.16337 -0.01896 C 0.19844 -0.02451 0.20799 -0.02128 0.23958 -0.0444 C 0.25434 -0.05503 0.26649 -0.07099 0.2809 -0.08232 C 0.29097 -0.11122 0.31354 -0.17018 0.27622 -0.18382 C 0.26788 -0.18682 0.2592 -0.18821 0.2507 -0.19029 C 0.22743 -0.18891 0.20399 -0.19029 0.1809 -0.1859 C 0.13455 -0.17734 0.09323 -0.14451 0.05556 -0.10983 C 0.03785 -0.0763 0.07066 -0.04671 0.09201 -0.04 C 0.09983 -0.03746 0.10781 -0.03584 0.1158 -0.03376 C 0.12535 -0.03515 0.13507 -0.03492 0.14445 -0.03792 C 0.14861 -0.03931 0.15243 -0.04255 0.15556 -0.04648 C 0.15885 -0.05064 0.16337 -0.06128 0.16337 -0.06128 C 0.16372 -0.06266 0.16667 -0.07677 0.16667 -0.07815 C 0.16667 -0.08948 0.16684 -0.10081 0.1651 -0.11191 C 0.16337 -0.12278 0.1349 -0.12995 0.13177 -0.1311 C 0.1 -0.12856 0.0658 -0.13734 0.03646 -0.12047 C 0.0283 -0.11561 0.01997 -0.11052 0.01267 -0.10359 C 0.00712 -0.09827 -0.00156 -0.0844 -0.00156 -0.0844 C 0.0007 -0.05711 0.00747 -0.05619 0.02691 -0.04856 C 0.07153 -0.03122 0.10347 -0.02867 0.1507 -0.02521 C 0.18715 -0.02659 0.22379 -0.02567 0.26024 -0.0296 C 0.28368 -0.03214 0.3066 -0.04162 0.33004 -0.0444 C 0.34931 -0.05896 0.35521 -0.05943 0.3651 -0.08232 C 0.36406 -0.09087 0.36476 -0.10012 0.36181 -0.10775 C 0.35868 -0.11607 0.35208 -0.12162 0.34757 -0.12879 C 0.33333 -0.15122 0.31389 -0.1755 0.29201 -0.18382 C 0.26042 -0.19584 0.26372 -0.19237 0.22691 -0.19445 C 0.17326 -0.18682 0.09688 -0.1859 0.05399 -0.1311 C 0.04531 -0.12 0.03802 -0.10706 0.03004 -0.09503 C 0.02639 -0.08301 0.01962 -0.07214 0.01892 -0.05919 C 0.01788 -0.04 0.02118 -0.02058 0.02535 -0.00208 C 0.02674 0.00416 0.0316 0.00809 0.0349 0.01271 C 0.06563 0.05572 0.09757 0.09086 0.14445 0.09942 C 0.15799 0.10196 0.17188 0.10219 0.18559 0.10358 C 0.19462 0.10081 0.20469 0.10173 0.21267 0.09526 C 0.22031 0.08901 0.23351 0.06589 0.24115 0.05294 C 0.24375 0.04023 0.24931 0.02797 0.24913 0.01479 C 0.24861 -0.03492 0.24288 -0.12324 0.2158 -0.16902 C 0.21076 -0.17758 0.20382 -0.18405 0.19844 -0.19237 C 0.18646 -0.21064 0.20417 -0.19885 0.17778 -0.2155 C 0.15695 -0.22891 0.12639 -0.22798 0.10469 -0.23029 C 0.04618 -0.22336 -0.01458 -0.20393 -0.06823 -0.1711 C -0.1033 -0.14983 -0.14184 -0.1274 -0.1651 -0.0844 C -0.16667 -0.07538 -0.1717 -0.06613 -0.16996 -0.05711 C -0.16892 -0.05133 -0.15104 -0.01665 -0.14288 -0.01041 C -0.09375 0.02774 -0.06007 0.03167 -0.0033 0.04231 C 0.08438 0.03884 0.08663 0.05109 0.15399 0.01687 C 0.17326 0.00716 0.18507 -0.02012 0.20156 -0.03584 C 0.22622 -0.10382 0.21945 -0.07214 0.22691 -0.12879 C 0.22795 -0.14636 0.23438 -0.18497 0.22066 -0.19654 C 0.21736 -0.19931 0.20104 -0.20555 0.1967 -0.20717 C 0.07066 -0.20347 -0.01875 -0.19584 -0.14288 -0.1607 C -0.18854 -0.14775 -0.27778 -0.11191 -0.27778 -0.11191 C -0.29045 -0.09919 -0.30365 -0.08717 -0.31597 -0.07399 C -0.31753 -0.07237 -0.3191 -0.07006 -0.3191 -0.06752 C -0.3191 -0.02266 -0.26528 -0.01295 -0.23976 -0.01041 C -0.1 -0.02636 -0.1118 0.00323 -0.02865 -0.07399 C -0.01163 -0.08971 0.00226 -0.10937 0.01267 -0.13318 C 0.01424 -0.14151 0.01719 -0.14983 0.01736 -0.15839 C 0.01858 -0.20208 0.000699999999999999 -0.21688 -0.02708 -0.22405 C -0.10746 -0.22058 -0.18351 -0.19492 -0.26198 -0.17318 C -0.28108 -0.16162 -0.3059 -0.15099 -0.31597 -0.12463 C -0.30955 -0.11191 -0.30538 -0.09688 -0.29687 -0.08671 C -0.29184 -0.0807 -0.28437 -0.08 -0.27778 -0.07815 C -0.25312 -0.07099 -0.22812 -0.06544 -0.2033 -0.05919 C -0.16146 -0.06128 -0.11944 -0.06104 -0.07778 -0.06544 C -0.03003 -0.07029 0.01528 -0.09457 0.06181 -0.10983 C 0.12379 -0.15399 0.1257 -0.14151 0.15556 -0.20509 C 0.16372 -0.24856 0.13958 -0.28208 0.11267 -0.30012 C 0.09774 -0.31006 0.07691 -0.30867 0.06024 -0.31076 C 0.01649 -0.30497 -0.11458 -0.30706 -0.15712 -0.24717 C -0.1599 -0.22659 -0.15799 -0.22012 -0.14132 -0.20717 C -0.10868 -0.18151 -0.07812 -0.17711 -0.04132 -0.16902 C 0.02934 -0.17272 0.14254 -0.16717 0.17448 -0.27469 C 0.17396 -0.28185 0.17448 -0.28925 0.17292 -0.29596 C 0.17083 -0.30497 0.15955 -0.30867 0.15399 -0.31076 C 0.12153 -0.32347 0.13837 -0.31977 0.11267 -0.32347 C 0.01649 -0.32232 -0.05121 -0.33526 -0.13819 -0.3022 C -0.15851 -0.29457 -0.1783 -0.2837 -0.19687 -0.27052 C -0.20816 -0.26243 -0.22708 -0.23885 -0.22708 -0.23885 C -0.225 -0.23168 -0.225 -0.22243 -0.22066 -0.21758 C -0.20191 -0.1963 -0.17569 -0.20185 -0.15399 -0.2007 C -0.12708 -0.20486 -0.09983 -0.2074 -0.07309 -0.21341 C -0.02552 -0.22405 0.03767 -0.27607 0.06337 -0.33388 C 0.06233 -0.34382 0.0625 -0.35399 0.06024 -0.36347 C 0.05625 -0.37989 0.02274 -0.38197 0.0158 -0.38266 C -0.05486 -0.37526 -0.10243 -0.36879 -0.15712 -0.31284 C -0.1783 -0.26382 -0.17326 -0.23445 -0.13663 -0.19862 C -0.09219 -0.15515 -0.06354 -0.13249 -0.00955 -0.12463 C 0.02379 -0.12879 0.05729 -0.13133 0.09045 -0.13734 C 0.09601 -0.13827 0.10104 -0.14266 0.10625 -0.1459 C 0.15833 -0.17804 0.18056 -0.19445 0.21111 -0.25989 C 0.21267 -0.27815 0.21337 -0.28948 0.20469 -0.30428 C 0.14323 -0.29688 0.09323 -0.27862 0.03646 -0.24093 C 0.00556 -0.22035 -0.02899 -0.20671 -0.05555 -0.17758 C -0.08941 -0.14035 -0.11597 -0.11723 -0.13021 -0.05919 C -0.12865 -0.04578 -0.12812 -0.03214 -0.12552 -0.01896 C -0.11771 0.01965 -0.06858 0.03953 -0.04444 0.05086 C -0.02483 0.04948 -0.00503 0.05133 0.01424 0.04647 C 0.03351 0.04161 0.05052 0.02635 0.06979 0.02127 C 0.07934 0.01271 0.08924 0.00508 0.09844 -0.00417 C 0.10885 -0.0148 0.12847 -0.03792 0.12847 -0.03792 C 0.1316 -0.04578 0.13976 -0.05272 0.13802 -0.06128 C 0.13594 -0.07122 0.13629 -0.08255 0.13177 -0.09087 C 0.12778 -0.09827 0.12014 -0.10081 0.11424 -0.10567 C 0.09201 -0.12463 0.06701 -0.12763 0.04115 -0.1311 C 0.02639 -0.13318 0.01146 -0.13388 -0.0033 -0.13526 C -0.05833 -0.13018 -0.13108 -0.14914 -0.16667 -0.07815 C -0.16562 -0.0696 -0.16615 -0.06058 -0.16354 -0.05272 C -0.13819 0.02104 -0.04444 0.02335 0.00469 0.02751 C 0.05243 0.0252 0.12188 0.03722 0.15399 -0.02521 C 0.15174 -0.03492 0.15226 -0.04671 0.14757 -0.0548 C 0.12413 -0.09619 0.07431 -0.09596 0.04115 -0.09919 C -0.07812 -0.09734 -0.06944 -0.1163 -0.14132 -0.07399 C -0.14392 -0.06914 -0.14792 -0.06497 -0.1493 -0.05919 C -0.15121 -0.05087 -0.14722 -0.04417 -0.14288 -0.04 C -0.11233 -0.01087 -0.10035 -0.00532 -0.06198 0.00208 C -0.04305 0.00578 -0.02396 0.00786 -0.00486 0.01063 C 0.04757 0.00994 0.09983 0.01063 0.15226 0.00855 C 0.15417 0.00855 0.14931 0.00531 0.14757 0.00439 C 0.14028 0.00092 0.13281 -0.00139 0.12535 -0.00417 C 0.11823 -0.00694 0.11059 -0.00555 0.10313 -0.00625 C 0.06667 -0.0222 -0.03871 -0.00763 0.05556 -0.02521 C 0.06181 -0.02636 0.06823 -0.02682 0.07448 -0.02752 C 0.12639 -0.04139 0.16771 -0.05064 0.21736 -0.06128 C 0.2257 -0.06497 0.23455 -0.0659 0.24288 -0.0696 C 0.24427 -0.07029 0.24757 -0.07422 0.24601 -0.07399 C 0.23212 -0.07191 0.225 -0.06474 0.21267 -0.05711 C 0.20208 -0.05041 0.19149 -0.04139 0.1809 -0.03584 C 0.17465 -0.0326 0.16806 -0.03076 0.16181 -0.02752 C 0.16233 -0.02474 0.16198 -0.02128 0.16337 -0.01896 C 0.16597 -0.01457 0.17361 -0.01919 0.16337 -0.0148 C 0.14913 -0.01711 0.13663 -0.02336 0.12222 -0.02521 C 0.11163 -0.02659 0.10104 -0.02682 0.09045 -0.02752 C 0.09635 -0.03214 0.10139 -0.03723 0.10781 -0.04 C 0.10729 -0.04208 0.10781 -0.04532 0.10625 -0.04648 C 0.10243 -0.04925 0.09705 -0.03654 0.0967 -0.03584 C 0.09618 -0.03376 0.09497 -0.03168 0.09514 -0.0296 C 0.09549 -0.02521 0.09896 -0.02128 0.09844 -0.01688 C 0.09826 -0.01457 0.09514 -0.0155 0.09358 -0.0148 C 0.09149 -0.01411 0.08941 -0.01341 0.08733 -0.01272 C 0.08385 -0.02497 0.09254 -0.02613 0.10156 -0.0296 C 0.11354 -0.03399 0.12604 -0.03607 0.13802 -0.04 C 0.12951 -0.01734 0.11441 -0.00162 0.10625 0.02127 C 0.09809 0.04439 0.08247 0.09086 0.08247 0.09086 C 0.08038 0.10774 0.0809 0.12508 0.07778 0.14173 C 0.07934 0.14797 0.07847 0.15653 0.08247 0.16069 C 0.08507 0.16346 0.08889 0.15815 0.09201 0.15653 C 0.09635 0.15445 0.10052 0.15214 0.10469 0.15005 C 0.11823 0.1267 0.1349 0.10959 0.14757 0.08462 C 0.16476 0.05086 0.17413 0.01618 0.1809 -0.02313 C 0.17726 -0.05203 0.17639 -0.08185 0.16979 -0.10983 C 0.16806 -0.117 0.16267 -0.1244 0.15712 -0.12463 C 0.14254 -0.12509 0.12847 -0.11607 0.11424 -0.11191 C 0.09201 -0.09526 0.11007 -0.11076 0.0809 -0.07191 C 0.07326 -0.06174 0.06424 -0.05318 0.05712 -0.04232 C 0.05347 -0.03677 0.05226 -0.02914 0.04913 -0.02313 C 0.04167 -0.00856 0.02535 0.01919 0.02535 0.01919 C 0.02222 0.03052 0.01736 0.04115 0.0158 0.05294 C 0.0099 0.09803 0.04514 0.11815 0.07135 0.12693 C 0.0783 0.12555 0.08524 0.12485 0.09201 0.12277 C 0.10295 0.1193 0.11163 0.1082 0.12066 0.09942 C 0.15035 0.07098 0.16649 0.03052 0.1809 -0.01272 C 0.18646 -0.05688 0.18924 -0.11422 0.14913 -0.12463 C 0.10243 -0.11908 0.06719 -0.07006 0.03646 -0.02752 C 0.02448 -0.0111 0.0099 0.00254 0 0.02127 C -0.01042 0.04115 -0.02378 0.0867 -0.02378 0.0867 C -0.02621 0.11075 -0.02917 0.13063 -0.02222 0.15653 C -0.00781 0.20994 0.0434 0.2326 0.0809 0.23884 C 0.09097 0.23607 0.10104 0.23375 0.11111 0.23052 C 0.11441 0.22959 0.11823 0.22936 0.12066 0.22635 C 0.13212 0.21294 0.15226 0.18196 0.15226 0.18196 C 0.15851 0.16277 0.16146 0.14242 0.16667 0.12277 C 0.16563 0.0904 0.16476 0.0578 0.16337 0.02543 C 0.1632 0.01988 0.16337 0.01387 0.16181 0.00855 C 0.15764 -0.00486 0.15156 -0.01711 0.14601 -0.0296 C 0.12483 -0.077 0.12049 -0.08255 0.08247 -0.09919 C 0.06441 -0.09642 0.04549 -0.09896 0.02847 -0.09087 C 0.0092 -0.08162 -0.00694 -0.06382 -0.02378 -0.04856 C -0.06892 -0.00763 -0.12552 0.04092 -0.1493 0.11005 C -0.1559 0.12924 -0.16094 0.14959 -0.16667 0.16924 C -0.17465 0.23075 -0.16753 0.27329 -0.13177 0.31514 C -0.12917 0.31815 -0.12691 0.32208 -0.12378 0.32346 C -0.11771 0.32624 -0.11111 0.32624 -0.10486 0.32763 C -0.09687 0.32555 -0.08889 0.32416 -0.08108 0.32138 C -0.06667 0.31607 -0.05729 0.29664 -0.04774 0.28115 C -0.03333 0.2578 -0.02621 0.23768 -0.0191 0.20924 C -0.01753 0.16716 -0.01649 0.14196 -0.03663 0.10797 C -0.04184 0.09942 -0.05121 0.09757 -0.05885 0.09318 C -0.0816 0.10011 -0.10503 0.10404 -0.12708 0.11422 C -0.16615 0.13225 -0.20573 0.17849 -0.22865 0.22196 C -0.23767 0.23884 -0.24826 0.25456 -0.25555 0.27283 C -0.26371 0.29294 -0.27465 0.33618 -0.27465 0.33618 C -0.27569 0.35375 -0.27639 0.37156 -0.27778 0.38913 C -0.27847 0.39838 -0.27969 0.4074 -0.28108 0.41641 C -0.28142 0.41872 -0.28125 0.4215 -0.28264 0.42289 C -0.28437 0.42474 -0.2868 0.42427 -0.28889 0.42497 C -0.29948 0.41133 -0.31024 0.40393 -0.3191 0.38682 C -0.35035 0.3267 -0.36285 0.25479 -0.39045 0.19237 C -0.40174 0.12809 -0.41059 0.06589 -0.41441 0 C -0.41354 -0.01919 -0.41788 -0.0444 -0.40156 -0.05272 C -0.39757 -0.0548 -0.39305 -0.05573 -0.38889 -0.05711 C -0.3467 -0.03931 -0.35764 -0.04093 -0.3191 0 C -0.31424 0.00508 -0.30833 0.00786 -0.3033 0.01271 C -0.28559 0.02982 -0.26788 0.04716 -0.25087 0.06566 C -0.19653 0.12485 -0.17899 0.14682 -0.13333 0.20924 C -0.10799 0.24393 -0.07795 0.30289 -0.03819 0.30867 C -0.03281 0.30589 -0.02691 0.30474 -0.02222 0.30034 C -0.00486 0.28393 0.01684 0.24901 0.02535 0.22196 C 0.04427 0.16185 0.02674 0.20555 0.04115 0.17133 C 0.04583 0.11422 0.05799 0.01387 0.01267 -0.02104 C -0.00642 -0.03584 0.00573 -0.02821 -0.02552 -0.03792 C -0.04514 -0.03723 -0.06493 -0.04047 -0.0842 -0.03584 C -0.14774 -0.02058 -0.19479 0.04069 -0.22708 0.11005 C -0.22656 0.12208 -0.22743 0.1341 -0.22552 0.14589 C -0.21736 0.19815 -0.13212 0.21063 -0.10799 0.21572 C -0.07049 0.21086 -0.03246 0.20971 0.00469 0.20092 C 0.05347 0.18936 0.14913 0.15445 0.14913 0.15445 C 0.20504 0.11306 0.24774 0.08601 0.28559 0.01687 C 0.29618 -0.0296 0.3099 -0.08162 0.28403 -0.12671 C 0.27743 -0.13827 0.26458 -0.16185 0.25399 -0.16902 C 0.24792 -0.17295 0.2349 -0.17758 0.2349 -0.17758 C 0.17986 -0.16116 0.12257 -0.11607 0.07934 -0.06752 C 0.06042 -0.04625 0.03854 -0.02775 0.02535 0 C 0.01858 0.0141 0.01372 0.02959 0.00781 0.04439 C 0.00938 0.05919 0.00764 0.07537 0.01267 0.08878 C 0.01771 0.10219 0.02691 0.11283 0.03646 0.12046 C 0.10365 0.17456 0.12083 0.16901 0.19844 0.17341 C 0.30278 0.15445 0.37622 0.1445 0.45556 0.05086 C 0.46597 0.03838 0.48472 -0.01087 0.48733 -0.01688 C 0.48958 -0.0326 0.4941 -0.05989 0.49358 -0.07399 C 0.49306 -0.08763 0.49028 -0.10104 0.48733 -0.11399 C 0.47622 -0.16162 0.43767 -0.17249 0.40625 -0.17758 C 0.31458 -0.16417 0.31788 -0.17041 0.22691 -0.13318 C 0.18351 -0.11538 0.14618 -0.07746 0.10625 -0.04856 C 0.06892 -0.02151 0.06424 -0.01365 0.04288 0.01479 C 0.03976 0.02404 0.03403 0.03214 0.03333 0.04231 C 0.03212 0.06196 0.04115 0.06774 0.0507 0.07607 C 0.10122 0.1193 0.09705 0.1126 0.15868 0.12277 C 0.20399 0.11491 0.23681 0.12092 0.26979 0.08046 C 0.2757 0.07329 0.27934 0.06358 0.28403 0.05503 C 0.29219 -0.02243 0.2316 -0.06382 0.18889 -0.09503 C 0.16754 -0.11076 0.14601 -0.12602 0.12379 -0.13943 C 0.11458 -0.14497 0.10469 -0.14798 0.09514 -0.15214 C 0.08941 -0.15145 0.08333 -0.15214 0.07778 -0.15006 C 0.06354 -0.14497 0.04844 -0.10659 0.04115 -0.09295 C 0.02917 -0.07052 0.0099 -0.0437 0.00313 -0.01688 C 0.00469 -0.01133 0.00434 -0.0037 0.00781 0 C 0.03733 0.03052 0.09392 0.00208 0.11736 -0.00208 C 0.2559 -0.06197 0.28872 -0.06798 0.41267 -0.19029 C 0.4632 -0.24 0.46927 -0.24 0.49514 -0.3022 C 0.49618 -0.31284 0.49844 -0.32324 0.49844 -0.33388 C 0.49844 -0.35237 0.47083 -0.37873 0.46823 -0.38035 C 0.42483 -0.4081 0.42708 -0.40532 0.37778 -0.40786 C 0.35608 -0.40578 0.33403 -0.40763 0.31267 -0.40162 C 0.29115 -0.39561 0.27118 -0.38266 0.2507 -0.37203 C 0.19688 -0.34405 0.14983 -0.32833 0.11892 -0.26197 C 0.11632 -0.24648 0.10747 -0.21457 0.11892 -0.2007 C 0.12344 -0.19515 0.12847 -0.19076 0.13333 -0.1859 C 0.1349 -0.18451 0.13611 -0.1822 0.13802 -0.18174 C 0.14375 -0.18012 0.14965 -0.18035 0.15556 -0.17966 C 0.175 -0.18659 0.19445 -0.19052 0.21111 -0.20717 C 0.22066 -0.21665 0.23646 -0.24093 0.23646 -0.24093 C 0.24757 -0.28532 0.21406 -0.3207 0.18403 -0.32555 C 0.11806 -0.3563 0.10504 -0.34081 0.01267 -0.33596 C -0.04601 -0.31977 -0.10208 -0.30983 -0.16042 -0.29388 C -0.19427 -0.27122 -0.1868 -0.28671 -0.19531 -0.26428 C -0.19167 -0.2585 -0.18924 -0.25041 -0.1842 -0.24717 C -0.16267 -0.2333 -0.15052 -0.23307 -0.13021 -0.23029 C -0.07257 -0.237 -0.01962 -0.23029 0.03004 -0.26844 C 0.02379 -0.30243 0.00469 -0.31607 -0.01753 -0.3318 C -0.03854 -0.34659 -0.0592 -0.35954 -0.08264 -0.36555 C -0.13038 -0.36393 -0.1434 -0.36717 -0.18264 -0.35076 C -0.1868 -0.34659 -0.19149 -0.34289 -0.19531 -0.33827 C -0.1967 -0.33665 -0.2 -0.33341 -0.19844 -0.3318 C -0.16944 -0.30336 -0.13958 -0.30775 -0.10486 -0.30636 C -0.07847 -0.30775 -0.05174 -0.30636 -0.02552 -0.31076 C -0.00121 -0.31492 0.02205 -0.32555 0.04583 -0.3318 C 0.05122 -0.33318 0.0566 -0.33318 0.06181 -0.33388 C 0.07795 -0.34613 0.08524 -0.34729 0.09358 -0.36555 C 0.08177 -0.38428 0.08316 -0.3822 0.06337 -0.38682 C 0.01458 -0.38521 -0.0118 -0.38359 -0.05712 -0.37411 C -0.08507 -0.36833 -0.11042 -0.36671 -0.13333 -0.34243 C -0.1217 -0.32347 -0.1224 -0.3281 -0.1033 -0.32555 C -0.09028 -0.32717 -0.07639 -0.32671 -0.06354 -0.3318 C -0.0566 -0.33457 -0.04288 -0.34035 -0.04288 -0.34035 C -0.03385 -0.35839 -0.06354 -0.36023 -0.06996 -0.36347 C -0.07413 -0.36555 -0.07812 -0.36879 -0.08264 -0.36995 C -0.09305 -0.37249 -0.10382 -0.37295 -0.11441 -0.37411 C -0.12865 -0.37573 -0.14288 -0.37688 -0.15712 -0.37827 C -0.18837 -0.37758 -0.21962 -0.37873 -0.25087 -0.37619 C -0.25312 -0.37596 -0.25521 -0.37295 -0.25555 -0.36995 C -0.2566 -0.36162 -0.24444 -0.36093 -0.23819 -0.35931 C -0.22969 -0.357 -0.21267 -0.35307 -0.21267 -0.35307 C -0.18264 -0.35561 -0.13958 -0.35538 -0.17621 -0.36347 C -0.19427 -0.37804 -0.17674 -0.36578 -0.21441 -0.37619 C -0.25087 -0.38636 -0.2868 -0.39492 -0.32378 -0.40162 C -0.33507 -0.40578 -0.35851 -0.41642 -0.36667 -0.4037 C -0.37187 -0.39561 -0.35243 -0.39284 -0.34444 -0.39099 C -0.33229 -0.38821 -0.30799 -0.38266 -0.30799 -0.38266 C -0.26875 -0.38613 -0.22951 -0.38867 -0.19045 -0.39307 C -0.17378 -0.39492 -0.17604 -0.39168 -0.17309 -0.4037 C -0.18055 -0.41388 -0.18333 -0.41596 -0.19375 -0.42058 C -0.20868 -0.41619 -0.21528 -0.41272 -0.22378 -0.39515 C -0.22222 -0.38821 -0.2224 -0.37989 -0.2191 -0.37411 C -0.21667 -0.36995 -0.2118 -0.36948 -0.20799 -0.36786 C -0.13958 -0.33758 -0.16684 -0.34775 -0.0842 -0.33827 C 0.03056 -0.34313 0.07882 -0.32786 0.1651 -0.36555 C 0.12691 -0.4 0.07292 -0.37018 0.02691 -0.36786 C -0.0349 -0.34821 -0.09618 -0.34197 -0.13663 -0.27052 C -0.14201 -0.24116 -0.10295 -0.20347 -0.08889 -0.19237 C -0.00503000000000001 -0.12602 0.06441 -0.08971 0.16181 -0.08023 C 0.17083 -0.08162 0.18004 -0.08232 0.18889 -0.0844 C 0.19167 -0.08509 0.19601 -0.08509 0.1967 -0.08879 C 0.19879 -0.09989 0.17222 -0.12347 0.1651 -0.12879 C 0.14514 -0.14405 0.12535 -0.15977 0.10469 -0.17318 C 0.0125 -0.2326 0.00139 -0.2326 -0.09687 -0.24717 C -0.14444 -0.24625 -0.20972 -0.26151 -0.25399 -0.22197 C -0.25746 -0.20786 -0.24288 -0.20255 -0.2349 -0.19862 C -0.2217 -0.19214 -0.20885 -0.18451 -0.19531 -0.17966 C -0.1158 -0.15168 -0.03264 -0.13619 0.04913 -0.12671 C 0.05451 -0.12532 0.05972 -0.1237 0.0651 -0.12255 C 0.06927 -0.12162 0.0809 -0.1244 0.07778 -0.12047 C 0.07344 -0.11492 0.06615 -0.11769 0.06024 -0.1163 C -0.02378 -0.1244 -0.10799 -0.13457 -0.19219 -0.12879 C -0.14896 -0.11492 -0.18333 -0.12717 -0.09531 -0.0696 C -0.00398999999999999 -0.00971 0.12413 0.03352 0.22222 0.06358 C 0.27205 0.07884 0.32188 0.1015 0.37292 0.1015 C 0.3783 0.1015 0.36233 0.09942 0.35712 0.09734 C 0.3316 0.0867 0.31649 0.0763 0.29201 0.06774 C 0.23698 0.04855 0.20174 0.04023 0.14601 0.03607 C 0.12379 0.03838 0.12344 0.03514 0.10781 0.05294 C 0.10833 0.06219 0.10729 0.07167 0.10955 0.08046 C 0.11267 0.09271 0.1184 0.10335 0.12379 0.11422 C 0.14167 0.15029 0.16754 0.19537 0.2 0.20924 C 0.19531 0.18427 0.13681 0.13641 0.12379 0.12693 C 0.08854 0.10127 0.05191 0.07884 0.0158 0.05503 C -0.00694 0.04 -0.02882 0.02242 -0.05243 0.01063 C -0.07674 -0.00162 -0.09861 -0.01434 -0.12066 -0.03376 C -0.12951 -0.05156 -0.13003 -0.0481 -0.09045 -0.0548 C -0.04861 -0.06197 -0.00694 -0.06891 0.0349 -0.07607 C 0.05608 -0.07977 0.07691 -0.08648 0.09844 -0.08879 C 0.1 -0.08948 0.10434 -0.09226 0.10313 -0.09087 C 0.09948 -0.08648 0.08663 -0.08324 0.08403 -0.08232 C 0.075 -0.07954 0.06615 -0.07677 0.05712 -0.07399 C 0.02587 -0.05388 -0.00555 -0.03538 -0.03663 -0.0148 C -0.05069 0.00393 -0.06701 0.01942 -0.08108 0.03815 C -0.09132 0.05202 -0.0941 0.07306 -0.1 0.09086 C -0.09687 0.11283 -0.09531 0.13526 -0.09045 0.15653 C -0.08941 0.16138 -0.08559 0.16416 -0.08264 0.16716 C -0.075 0.17526 -0.06649 0.18219 -0.05885 0.19029 C -0.0368 0.21341 -0.08368 0.18266 -0.02066 0.21156 C 0.00885 0.22497 0.02517 0.2289 0.05556 0.2326 C 0.0566 0.23052 0.05903 0.2289 0.05868 0.22635 C 0.05729 0.21687 0.04826 0.19838 0.04115 0.19445 C 0.03767 0.1926 0.03368 0.19306 0.03004 0.19237 C 0.02743 0.19029 0.025 0.18797 0.02222 0.18612 C 0.02066 0.1852 0.01632 0.18589 0.01736 0.18404 C 0.02083 0.17757 0.03142 0.17664 0.03646 0.17549 C 0.10868 0.17803 0.17274 0.18566 0.24601 0.18404 C 0.23212 0.17849 0.20538 0.16092 0.19514 0.15445 C 0.19063 0.15167 0.18733 0.14543 0.18247 0.14381 C 0.14497 0.13063 0.1059 0.13202 0.06823 0.12046 C 0.05017 0.12115 0.03177 0.11745 0.01424 0.12277 C 0.00295 0.12624 -0.01597 0.14589 -0.01597 0.14589 C -0.01892 0.1519 -0.03073 0.17318 -0.03177 0.18196 C -0.03212 0.18497 -0.02969 0.18751 -0.02865 0.19029 C 0.00052 0.17896 0.02188 0.15121 0.04757 0.13109 C 0.17031 0.03491 0.03924 0.14104 0.14445 0.04647 C 0.18004 0.01433 0.16024 0.05156 0.20781 -0.01041 C 0.22656 -0.03492 0.24063 -0.06798 0.25226 -0.09919 C 0.25122 -0.10914 0.25104 -0.11908 0.24913 -0.12879 C 0.24306 -0.15815 0.2099 -0.16093 0.19358 -0.16486 C 0.1809 -0.16417 0.16823 -0.16463 0.15556 -0.16278 C 0.14948 -0.16185 0.14358 -0.15977 0.13802 -0.1563 C 0.11285 -0.14081 0.04028 -0.09665 0.02066 -0.05919 C 0.0151 -0.04856 0.01111 -0.03654 0.00625 -0.02521 C 0.00677 -0.01318 0.00451 -0.00047 0.00781 0.01063 C 0.02118 0.05618 0.03611 0.05572 0.06667 0.07838 C 0.08993 0.09595 0.11406 0.11977 0.14115 0.12485 C 0.16111 0.12855 0.18142 0.12832 0.20156 0.13109 C 0.21059 0.12901 0.21997 0.12924 0.22847 0.12485 C 0.24236 0.11768 0.24792 0.10659 0.25399 0.09086 C 0.25243 0.07953 0.25347 0.06705 0.24913 0.05711 C 0.23941 0.03514 0.2316 0.03098 0.21736 0.02543 C 0.1691 0.0067 0.13611 0.00531 0.08403 0.00208 C 0.00833 0.00346 -0.06736 0.00161 -0.14288 0.00647 C -0.15608 0.0074 -0.1684 0.01503 -0.18108 0.01919 C -0.18368 0.02011 -0.18628 0.02034 -0.18889 0.02127 C -0.19062 0.02173 -0.19375 0.02566 -0.19375 0.02335 C -0.19375 0.01734 -0.18542 0.01849 -0.18108 0.01687 C -0.17569 0.01503 -0.17031 0.01294 -0.1651 0.01063 C -0.07847 -0.0259 -0.14201 -0.00278 -0.08108 -0.02104 C 0.00608 -0.0474 0.07083 -0.07746 0.15226 -0.12671 C 0.15764 -0.13388 0.16285 -0.14081 0.16823 -0.14798 C 0.17066 -0.15122 0.16754 -0.15769 0.1651 -0.1607 C 0.1592 -0.1681 0.15243 -0.17711 0.14445 -0.17758 C 0.09844 -0.18058 0.12326 -0.17873 0.06979 -0.18382 C 0.06493 -0.18313 -0.01684 -0.1755 -0.04288 -0.16278 C -0.07569 -0.14682 -0.10486 -0.12602 -0.1349 -0.10359 C -0.13646 -0.10012 -0.13976 -0.09711 -0.13976 -0.09295 C -0.13976 -0.07307 -0.11736 -0.07677 -0.10642 -0.07191 C -0.01701 -0.09203 0.03681 -0.07445 0.08403 -0.16486 C 0.08507 -0.17041 0.08733 -0.17596 0.08733 -0.18174 C 0.08733 -0.2148 0.06458 -0.21827 0.04583 -0.22405 C -0.04375 -0.21341 -0.05417 -0.21827 -0.12378 -0.18174 C -0.15399 -0.14844 -0.14566 -0.16393 -0.15555 -0.14359 C -0.15347 -0.13804 -0.15295 -0.13064 -0.1493 -0.12671 C -0.14549 -0.12255 -0.12535 -0.11607 -0.1191 -0.11399 C -0.04479 -0.12023 -0.01719 -0.11977 0.04583 -0.14151 C 0.07153 -0.15954 0.0783 -0.16232 0.09514 -0.18798 C 0.10399 -0.23607 0.07847 -0.24786 0.0507 -0.25573 C 0.03698 -0.25365 0.02292 -0.25434 0.00955 -0.24948 C -0.02274 -0.23792 -0.06319 -0.2111 -0.09531 -0.19445 C -0.10642 -0.18867 -0.11528 -0.17688 -0.12552 -0.16902 C -0.1441 -0.15469 -0.15885 -0.1459 -0.17153 -0.12255 C -0.1684 -0.11561 -0.16632 -0.10729 -0.16198 -0.10151 C -0.15156 -0.08763 -0.13003 -0.08786 -0.11753 -0.08671 C -0.04913 -0.09943 0.02118 -0.1318 0.07135 -0.19862 C 0.07708 -0.21526 0.08108 -0.22474 0.08403 -0.24093 C 0.07587 -0.26867 0.07153 -0.25758 0.04288 -0.25573 C -0.00972 -0.23006 -0.07951 -0.18359 -0.11111 -0.12047 C -0.11632 -0.09156 -0.07448 -0.10914 -0.06823 -0.10983 C -0.01389 -0.1244 0.03351 -0.13758 0.08889 -0.15422 C 0.14688 -0.1718 0.20295 -0.18382 0.25399 -0.22821 C 0.2625 -0.23561 0.23385 -0.22682 0.22379 -0.22613 C 0.1434 -0.21434 0.06181 -0.18659 -0.01753 -0.16486 C -0.07309 -0.12786 -0.1224 -0.10266 -0.16996 -0.05064 C -0.19462 -0.02359 -0.20035 -0.0185 -0.21111 0.01063 C -0.18924 0.02242 -0.14983 -0.00578 -0.13021 -0.0148 C -0.12604 -0.01896 -0.12222 -0.02405 -0.11753 -0.02752 C -0.10677 -0.03538 -0.09444 -0.03954 -0.0842 -0.04856 C -0.07483 -0.05665 -0.06753 -0.06867 -0.05885 -0.07815 C -0.05642 -0.0807 -0.05347 -0.08232 -0.05087 -0.0844 C -0.0467 -0.09365 -0.04236 -0.10266 -0.03819 -0.11191 C -0.03698 -0.11469 -0.03455 -0.11723 -0.0349 -0.12047 C -0.03663 -0.13781 -0.03976 -0.15492 -0.04444 -0.1711 C -0.05208 -0.19746 -0.05174 -0.18844 -0.06354 -0.19654 C -0.10052 -0.22243 -0.09184 -0.2148 -0.13976 -0.21989 C -0.16771 -0.21411 -0.19583 -0.20948 -0.22378 -0.20278 C -0.26649 -0.19237 -0.30295 -0.14798 -0.33021 -0.10567 C -0.3401 -0.07284 -0.35347 -0.0326 -0.32378 -0.00833 C -0.31996 -0.00509 -0.31528 -0.00417 -0.31111 -0.00208 C -0.30226 -0.00532 -0.29253 -0.00532 -0.2842 -0.01041 C -0.23507 -0.0407 -0.16858 -0.09272 -0.13021 -0.12671 C -0.05851 -0.19052 -0.07552 -0.17203 -0.02865 -0.23677 C -0.02587 -0.25018 -0.02292 -0.25596 -0.03177 -0.26428 C -0.04236 -0.26359 -0.05312 -0.26497 -0.06354 -0.26197 C -0.12361 -0.24463 -0.17621 -0.18359 -0.21111 -0.11839 C -0.20538 -0.10428 -0.20295 -0.08648 -0.19375 -0.07607 C -0.18628 -0.06752 -0.175 -0.06521 -0.1651 -0.06544 C -0.1158 -0.06659 -0.06667 -0.07538 -0.01753 -0.08023 C 0.01163 -0.0881 0.04149 -0.09087 0.06979 -0.10359 C 0.08038 -0.10844 0.09097 -0.11307 0.10156 -0.11839 C 0.11233 -0.1237 0.13333 -0.13526 0.13333 -0.13526 C 0.13594 -0.13804 0.13993 -0.13943 0.14115 -0.14359 C 0.14167 -0.14567 0.1382 -0.1459 0.13646 -0.1459 C 0.10208 -0.14451 0.06771 -0.14151 0.03333 -0.13943 C -0.0151 -0.12671 -0.06319 -0.1126 -0.11111 -0.09711 C -0.11962 -0.09064 -0.13299 -0.08532 -0.13663 -0.07191 C -0.11458 -0.06313 -0.09479 -0.06012 -0.07153 -0.05711 C -0.02344 -0.05989 0.02483 -0.06174 0.07292 -0.06544 C 0.09167 -0.06682 0.12847 -0.07815 0.12847 -0.07815 C 0.13264 -0.08093 0.13993 -0.0807 0.14115 -0.08671 C 0.1434 -0.09781 0.13142 -0.1022 0.12691 -0.10567 C 0.09965 -0.12694 0.08021 -0.1385 0.04757 -0.14798 C 0.04028 -0.15006 0.03281 -0.14937 0.02535 -0.15006 C -0.07882 -0.17919 -0.04288 -0.17619 -0.20156 -0.1563 C -0.21562 -0.15445 -0.24618 -0.11492 -0.25087 -0.10983 C -0.25781 -0.09341 -0.2625 -0.08578 -0.26198 -0.06336 C -0.26076 -0.01642 -0.21719 0.01896 -0.18576 0.02543 C -0.1684 0.0289 -0.15087 0.02682 -0.13333 0.02751 C -0.11701 0.02612 -0.10035 0.02728 -0.0842 0.02335 C -0.06944 0.01988 -0.0559 0.00924 -0.04132 0.00439 C -0.02483 -0.01249 -0.01875 -0.01573 -0.00799 -0.03584 C -0.00903 -0.04648 -0.00868 -0.05734 -0.01111 -0.06752 C -0.01198 -0.07145 -0.01458 -0.07607 -0.01753 -0.07607 C -0.0283 -0.07607 -0.05174 -0.03908 -0.05243 -0.03792 C -0.07274 -0.00116 -0.09531 0.02982 -0.10642 0.07398 C -0.1059 0.07745 -0.10694 0.08254 -0.10486 0.08462 C -0.08767 0.10196 -0.02847 0.09526 -0.02552 0.09526 C 0.08212 0.08161 0.18698 0.06936 0.28733 0.01271 C 0.29201 0.00508 0.29965 -0.000699999999999999 0.30156 -0.01041 C 0.30712 -0.03769 0.25399 -0.07376 0.2507 -0.07607 C 0.23385 -0.0874 0.21771 -0.10081 0.2 -0.10983 C 0.16927 -0.12532 0.13403 -0.13064 0.10156 -0.13734 C 0.09115 -0.13642 0.07135 -0.14081 0.07135 -0.12879 E">
                                      <p:cBhvr>
                                        <p:cTn id="162" dur="2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833 0.02682 0.0026 -0.00324 -0.00955 0.01687 C -0.01233 0.0215 -0.01458 0.03167 -0.0191 0.03607 C -0.02743 0.04393 -0.03628 0.05086 -0.04444 0.05919 C -0.04774 0.06266 -0.05017 0.06751 -0.05399 0.06982 C -0.06979 0.07907 -0.08924 0.08439 -0.10642 0.08878 C -0.13559 0.08277 -0.13351 0.08878 -0.1493 0.06774 C -0.15365 0.0326 -0.15937 -0.00301 -0.1651 -0.03792 C -0.16424 -0.05341 -0.16389 -0.09665 -0.15712 -0.1163 C -0.1375 -0.17341 -0.09167 -0.18659 -0.0493 -0.19029 C -0.03403 -0.18821 -0.01858 -0.18706 -0.0033 -0.18382 C 0.01302 -0.18035 0.03299 -0.16417 0.04583 -0.1563 C 0.11979 -0.11191 0.19288 -0.05388 0.23802 0.03815 C 0.25 0.08855 0.24688 0.06427 0.24913 0.11005 C 0.24705 0.12786 0.24445 0.16624 0.23333 0.17757 C 0.21701 0.19398 0.20833 0.21734 0.19045 0.2326 C 0.18767 0.23491 0.18403 0.23491 0.1809 0.23676 C 0.14514 0.25803 0.17292 0.24763 0.1349 0.25803 C 0.12066 0.25618 0.10538 0.25872 0.09201 0.25156 C 0.05469 0.23121 0.02431 0.18427 0.00156 0.14173 C -0.00399 0.13156 -0.01545 0.0978 -0.01753 0.09318 C -0.02552 0.07514 -0.03715 0.05965 -0.04288 0.04023 C -0.04705 0.02635 -0.05399 -0.00208 -0.05399 -0.00208 C -0.05035 -0.04208 -0.05573 -0.04417 -0.02708 -0.04 C -0.0118 -0.02521 -0.00694 -0.000470000000000002 0.00625 0.01687 C 0.03281 0.05225 0.04375 0.06312 0.07622 0.08254 C 0.09497 0.09364 0.11632 0.0941 0.13646 0.09942 C 0.1592 0.09757 0.18403 0.10358 0.20469 0.09086 C 0.23212 0.07398 0.24896 0.04716 0.26181 0.01271 C 0.2592 -0.00833 0.25729 -0.0296 0.25399 -0.05064 C 0.2467 -0.0955 0.22222 -0.11769 0.19514 -0.14151 C 0.19254 -0.14382 0.18872 -0.14313 0.18559 -0.14359 C 0.17708 -0.14474 0.16875 -0.14521 0.16024 -0.1459 C 0.14653 -0.14521 0.13247 -0.14636 0.11892 -0.14359 C 0.02135 -0.1237 -0.06285 0.02566 -0.12066 0.11838 C -0.20035 0.24624 -0.13924 0.17641 -0.19375 0.23468 C -0.20399 0.24578 -0.26649 0.25503 -0.27153 0.25595 C -0.35625 0.23653 -0.35035 0.24693 -0.40955 0.19445 C -0.43368 0.13896 -0.41701 0.08 -0.4 0.02543 C -0.38819 -0.01226 -0.3526 -0.07445 -0.34444 -0.09087 C -0.3375 -0.10474 -0.29201 -0.17919 -0.27778 -0.19654 C -0.27014 -0.20578 -0.26042 -0.21133 -0.25243 -0.21989 C -0.21927 -0.25503 -0.2184 -0.26151 -0.17621 -0.26844 C -0.14236 -0.26497 -0.10833 -0.26336 -0.07465 -0.25781 C -0.05191 -0.25411 0.01476 -0.21457 0.02066 -0.21133 C 0.07865 -0.17804 0.13229 -0.13642 0.17778 -0.07815 C 0.20885 -0.03839 0.22708 0.000460000000000002 0.2507 0.04647 C 0.2566 0.0578 0.26094 0.07075 0.26823 0.08046 C 0.2724 0.08624 0.28247 0.09526 0.28247 0.09526 C 0.28941 0.09179 0.29653 0.08901 0.30313 0.08462 C 0.31806 0.07468 0.3283 0.05341 0.33802 0.03607 C 0.35538 0.00531 0.36146 -0.00856 0.37135 -0.0444 C 0.3724 -0.05434 0.37448 -0.06405 0.37448 -0.07399 C 0.37448 -0.08463 0.36285 -0.11954 0.36181 -0.12255 C 0.34514 -0.1718 0.3125 -0.19145 0.27934 -0.2155 C 0.27604 -0.21804 0.27344 -0.22243 0.26979 -0.22405 C 0.25052 -0.23214 0.22292 -0.23399 0.20313 -0.23677 C 0.18507 -0.2333 0.16684 -0.23168 0.14913 -0.22613 C 0.07153 -0.20162 0.00399 -0.13619 -0.04601 -0.0548 C -0.08924 0.01549 -0.11302 0.09364 -0.14444 0.17341 C -0.1566 0.20393 -0.15851 0.21711 -0.18264 0.2474 C -0.20764 0.27884 -0.25712 0.31792 -0.28889 0.33618 C -0.29479 0.33965 -0.30174 0.33872 -0.30799 0.34034 C -0.3224 0.34427 -0.33663 0.3489 -0.35087 0.35306 C -0.39792 0.34173 -0.40365 0.35098 -0.43021 0.31075 C -0.44392 0.20023 -0.37413 0.09919 -0.33021 0.01687 C -0.29948 -0.0407 -0.2691 -0.10844 -0.23177 -0.15839 C -0.21597 -0.17966 -0.19878 -0.19931 -0.1842 -0.22197 C -0.16371 -0.25365 -0.14549 -0.27469 -0.11753 -0.29156 C -0.0868 -0.28948 -0.05521 -0.2955 -0.02552 -0.28532 C 0.00608 -0.27469 0.03368 -0.24833 0.06337 -0.23029 C 0.13542 -0.18636 0.21076 -0.11168 0.23958 -0.01041 C 0.24427 0.02728 0.24809 0.07607 0.27622 0.09526 C 0.2901 0.09294 0.29271 0.09618 0.30156 0.07607 C 0.30868 0.06011 0.31892 0.02543 0.31892 0.02543 C 0.32465 -0.02266 0.32691 -0.02151 0.32066 -0.07815 C 0.31788 -0.10382 0.29149 -0.14729 0.28559 -0.15839 C 0.27326 -0.18128 0.24809 -0.20602 0.2349 -0.21989 C 0.1901 -0.26729 0.17031 -0.28301 0.11267 -0.28948 C 0.06198 -0.28116 0.02517 -0.22844 -0.00955 -0.18382 C -0.05469 -0.12578 -0.08524 -0.07445 -0.1033 0.00439 C -0.10486 0.01988 -0.10903 0.03537 -0.10799 0.05086 C -0.10278 0.12786 -0.04826 0.18543 0 0.21572 C 0.02639 0.23237 0.05695 0.23167 0.08559 0.23884 C 0.12431 0.2319 0.1632 0.22705 0.20156 0.2178 C 0.22222 0.21271 0.23715 0.18797 0.25399 0.17133 C 0.3151 0.11098 0.33854 0.00439000000000001 0.36024 -0.08671 C 0.36163 -0.12648 0.36441 -0.12763 0.35712 -0.16278 C 0.35486 -0.17411 0.33333 -0.17758 0.33333 -0.17758 C 0.29601 -0.17272 0.28576 -0.15677 0.26024 -0.11839 C 0.2507 -0.08602 0.2441 -0.05318 0.23958 -0.01896 C 0.2401 0.00716 0.23698 0.03375 0.24115 0.05919 C 0.24566 0.08624 0.28125 0.17063 0.29358 0.19029 C 0.30695 0.21179 0.31979 0.23815 0.33958 0.2474 C 0.35017 0.25225 0.37135 0.26219 0.37135 0.26219 C 0.37934 0.25803 0.38767 0.25503 0.39514 0.24948 C 0.40833 0.23977 0.4151 0.21872 0.42222 0.20092 C 0.43976 0.15699 0.4434 0.14057 0.45399 0.1015 C 0.46198 0.02797 0.46615 -0.03122 0.46979 -0.10567 C 0.45747 -0.17041 0.43212 -0.23584 0.40469 -0.29156 C 0.4007 -0.29943 0.39462 -0.30497 0.38889 -0.31076 C 0.35729 -0.3422 0.29583 -0.40532 0.25399 -0.41642 C 0.24201 -0.41966 0.22951 -0.41919 0.21736 -0.42058 C 0.15781 -0.40301 0.18767 -0.41642 0.12847 -0.37827 C 0.09445 -0.3563 0.07413 -0.31792 0.04445 -0.28948 C 0.03351 -0.26035 0.02899 -0.25573 0.02691 -0.22405 C 0.02448 -0.18891 0.06302 -0.15885 0.08403 -0.14798 C 0.08906 -0.14544 0.09462 -0.14659 0.1 -0.1459 C 0.1191 -0.14729 0.13837 -0.14544 0.15712 -0.15006 C 0.19566 -0.15977 0.22726 -0.197 0.25399 -0.23237 C 0.25764 -0.24786 0.26788 -0.26313 0.2651 -0.27908 C 0.26198 -0.29734 0.26024 -0.31607 0.25556 -0.33388 C 0.2526 -0.34544 0.22778 -0.35307 0.22066 -0.35515 C 0.15712 -0.35237 0.16927 -0.35723 0.09201 -0.32555 C -0.00191 -0.28717 -0.07031 -0.26266 -0.1349 -0.1607 C -0.13594 -0.15422 -0.13889 -0.14798 -0.13819 -0.14151 C -0.13611 -0.1207 -0.13316 -0.09966 -0.12708 -0.08023 C -0.12535 -0.07469 -0.11996 -0.0726 -0.11597 -0.0696 C -0.05469 -0.02359 -0.08038 -0.03492 -0.01441 -0.0296 C 0.03594 -0.04162 0.09688 -0.0518 0.12535 -0.1163 C 0.12691 -0.12625 0.13021 -0.13573 0.13004 -0.1459 C 0.12813 -0.22428 0.07188 -0.23191 0.02691 -0.24093 C -0.10174 -0.23469 -0.12934 -0.23908 -0.23021 -0.20925 C -0.24566 -0.19769 -0.25885 -0.19654 -0.26198 -0.1755 C -0.2401 -0.14197 -0.22865 -0.15006 -0.19045 -0.14151 C -0.11736 -0.14752 -0.08611 -0.14405 -0.02066 -0.16694 C -0.00139 -0.17365 0.01441 -0.19191 0.03177 -0.20509 C 0.03785 -0.21457 0.05087 -0.23353 0.05226 -0.24509 C 0.05747 -0.28717 0.03368 -0.32116 0.00955 -0.34243 C 0.00295 -0.34821 -0.00538 -0.34914 -0.01267 -0.35307 C -0.10156 -0.3385 -0.17812 -0.34151 -0.24132 -0.24717 C -0.24253 -0.23862 -0.24583 -0.21919 -0.24444 -0.21341 C -0.23108 -0.15769 -0.17396 -0.14544 -0.13819 -0.13734 C -0.07795 -0.15492 -0.08924 -0.14567 -0.04774 -0.19445 C -0.02083 -0.25827 -0.02639 -0.22706 -0.02378 -0.28532 C -0.02708 -0.30313 -0.02656 -0.3237 -0.0349 -0.33827 C -0.05278 -0.36925 -0.07691 -0.38012 -0.10486 -0.38474 C -0.17309 -0.37989 -0.24305 -0.3859 -0.30799 -0.35307 C -0.32465 -0.34474 -0.33976 -0.3318 -0.35555 -0.32116 C -0.37986 -0.27746 -0.37378 -0.29688 -0.38108 -0.26844 C -0.37899 -0.2585 -0.3776 -0.24833 -0.37465 -0.23885 C -0.36823 -0.21896 -0.31233 -0.17919 -0.29844 -0.1711 C -0.28003 -0.16023 -0.25833 -0.16578 -0.23819 -0.16486 C -0.22222 -0.16833 -0.20608 -0.17041 -0.19045 -0.1755 C -0.16198 -0.18474 -0.13316 -0.23885 -0.12378 -0.2726 C -0.1224 -0.28417 -0.11788 -0.29758 -0.12865 -0.3022 C -0.22656 -0.29827 -0.31649 -0.26128 -0.4 -0.19237 C -0.41684 -0.15492 -0.41493 -0.16717 -0.3842 -0.1311 C -0.37257 -0.11746 -0.35486 -0.117 -0.33976 -0.11191 C -0.30833 -0.10128 -0.27517 -0.10544 -0.24288 -0.10359 C -0.20382 -0.10983 -0.16458 -0.11492 -0.12552 -0.12255 C -0.08854 -0.12995 -0.0559 -0.15584 -0.02066 -0.1711 C 0.00243 -0.20185 0.00695 -0.20162 0.01424 -0.24093 C 0.01267 -0.25226 0.01267 -0.26405 0.00955 -0.27469 C 0.00365 -0.29457 -0.01337 -0.30729 -0.02708 -0.31492 C -0.04826 -0.31145 -0.06927 -0.30752 -0.09045 -0.30428 C -0.09635 -0.30336 -0.10243 -0.30474 -0.10799 -0.3022 C -0.14462 -0.28532 -0.20347 -0.25457 -0.22552 -0.20925 C -0.23142 -0.197 -0.23611 -0.18382 -0.24132 -0.1711 C -0.23976 -0.1563 -0.24132 -0.14035 -0.23663 -0.12671 C -0.22135 -0.08278 -0.16163 -0.0259 -0.12865 -0.01688 C -0.10573 -0.01064 -0.08194 -0.00925 -0.05885 -0.00417 C -0.04965 -0.00208 -0.0408 0.00161 -0.03177 0.00439 C 0.02379 0.00161 0.07969 0.00393 0.1349 -0.00417 C 0.1901 -0.01226 0.22604 -0.06821 0.24288 -0.13318 C 0.24028 -0.18798 0.24705 -0.2148 0.21736 -0.24948 C 0.2099 -0.25827 0.19392 -0.25781 0.18403 -0.25989 C 0.16129 -0.25642 0.13802 -0.25665 0.1158 -0.24948 C 0.09809 -0.24393 0.0651 -0.22197 0.0651 -0.22197 C 0.05087 -0.20625 0.0408 -0.20162 0.03802 -0.1755 C 0.04861 -0.12902 0.05226 -0.10289 0.09045 -0.0844 C 0.10208 -0.07885 0.12535 -0.06752 0.12535 -0.06752 C 0.13385 -0.07029 0.14323 -0.07029 0.1507 -0.07607 C 0.15486 -0.07931 0.17257 -0.11284 0.17622 -0.12047 C 0.17847 -0.12532 0.18056 -0.13018 0.18247 -0.13526 C 0.18316 -0.13734 0.18559 -0.14104 0.18403 -0.14151 C 0.18073 -0.14243 0.1776 -0.13873 0.17448 -0.13734 C 0.15712 -0.12162 0.13698 -0.10151 0.12535 -0.07815 C 0.12431 -0.0726 0.1224 -0.06706 0.12222 -0.06128 C 0.12188 -0.05341 0.12135 -0.04509 0.12379 -0.03792 C 0.13038 -0.01896 0.15174 -0.02012 0.16337 -0.01896 C 0.19844 -0.02451 0.20799 -0.02128 0.23958 -0.0444 C 0.25434 -0.05503 0.26649 -0.07099 0.2809 -0.08232 C 0.29097 -0.11122 0.31354 -0.17018 0.27622 -0.18382 C 0.26788 -0.18682 0.2592 -0.18821 0.2507 -0.19029 C 0.22743 -0.18891 0.20399 -0.19029 0.1809 -0.1859 C 0.13455 -0.17734 0.09323 -0.14451 0.05556 -0.10983 C 0.03785 -0.0763 0.07066 -0.04671 0.09201 -0.04 C 0.09983 -0.03746 0.10781 -0.03584 0.1158 -0.03376 C 0.12535 -0.03515 0.13507 -0.03492 0.14445 -0.03792 C 0.14861 -0.03931 0.15243 -0.04255 0.15556 -0.04648 C 0.15885 -0.05064 0.16337 -0.06128 0.16337 -0.06128 C 0.16372 -0.06266 0.16667 -0.07677 0.16667 -0.07815 C 0.16667 -0.08948 0.16684 -0.10081 0.1651 -0.11191 C 0.16337 -0.12278 0.1349 -0.12995 0.13177 -0.1311 C 0.1 -0.12856 0.0658 -0.13734 0.03646 -0.12047 C 0.0283 -0.11561 0.01997 -0.11052 0.01267 -0.10359 C 0.00712 -0.09827 -0.00156 -0.0844 -0.00156 -0.0844 C 0.0007 -0.05711 0.00747 -0.05619 0.02691 -0.04856 C 0.07153 -0.03122 0.10347 -0.02867 0.1507 -0.02521 C 0.18715 -0.02659 0.22379 -0.02567 0.26024 -0.0296 C 0.28368 -0.03214 0.3066 -0.04162 0.33004 -0.0444 C 0.34931 -0.05896 0.35521 -0.05943 0.3651 -0.08232 C 0.36406 -0.09087 0.36476 -0.10012 0.36181 -0.10775 C 0.35868 -0.11607 0.35208 -0.12162 0.34757 -0.12879 C 0.33333 -0.15122 0.31389 -0.1755 0.29201 -0.18382 C 0.26042 -0.19584 0.26372 -0.19237 0.22691 -0.19445 C 0.17326 -0.18682 0.09688 -0.1859 0.05399 -0.1311 C 0.04531 -0.12 0.03802 -0.10706 0.03004 -0.09503 C 0.02639 -0.08301 0.01962 -0.07214 0.01892 -0.05919 C 0.01788 -0.04 0.02118 -0.02058 0.02535 -0.00208 C 0.02674 0.00416 0.0316 0.00809 0.0349 0.01271 C 0.06563 0.05572 0.09757 0.09086 0.14445 0.09942 C 0.15799 0.10196 0.17188 0.10219 0.18559 0.10358 C 0.19462 0.10081 0.20469 0.10173 0.21267 0.09526 C 0.22031 0.08901 0.23351 0.06589 0.24115 0.05294 C 0.24375 0.04023 0.24931 0.02797 0.24913 0.01479 C 0.24861 -0.03492 0.24288 -0.12324 0.2158 -0.16902 C 0.21076 -0.17758 0.20382 -0.18405 0.19844 -0.19237 C 0.18646 -0.21064 0.20417 -0.19885 0.17778 -0.2155 C 0.15695 -0.22891 0.12639 -0.22798 0.10469 -0.23029 C 0.04618 -0.22336 -0.01458 -0.20393 -0.06823 -0.1711 C -0.1033 -0.14983 -0.14184 -0.1274 -0.1651 -0.0844 C -0.16667 -0.07538 -0.1717 -0.06613 -0.16996 -0.05711 C -0.16892 -0.05133 -0.15104 -0.01665 -0.14288 -0.01041 C -0.09375 0.02774 -0.06007 0.03167 -0.0033 0.04231 C 0.08438 0.03884 0.08663 0.05109 0.15399 0.01687 C 0.17326 0.00716 0.18507 -0.02012 0.20156 -0.03584 C 0.22622 -0.10382 0.21945 -0.07214 0.22691 -0.12879 C 0.22795 -0.14636 0.23438 -0.18497 0.22066 -0.19654 C 0.21736 -0.19931 0.20104 -0.20555 0.1967 -0.20717 C 0.07066 -0.20347 -0.01875 -0.19584 -0.14288 -0.1607 C -0.18854 -0.14775 -0.27778 -0.11191 -0.27778 -0.11191 C -0.29045 -0.09919 -0.30365 -0.08717 -0.31597 -0.07399 C -0.31753 -0.07237 -0.3191 -0.07006 -0.3191 -0.06752 C -0.3191 -0.02266 -0.26528 -0.01295 -0.23976 -0.01041 C -0.1 -0.02636 -0.1118 0.00323 -0.02865 -0.07399 C -0.01163 -0.08971 0.00226 -0.10937 0.01267 -0.13318 C 0.01424 -0.14151 0.01719 -0.14983 0.01736 -0.15839 C 0.01858 -0.20208 0.000699999999999999 -0.21688 -0.02708 -0.22405 C -0.10746 -0.22058 -0.18351 -0.19492 -0.26198 -0.17318 C -0.28108 -0.16162 -0.3059 -0.15099 -0.31597 -0.12463 C -0.30955 -0.11191 -0.30538 -0.09688 -0.29687 -0.08671 C -0.29184 -0.0807 -0.28437 -0.08 -0.27778 -0.07815 C -0.25312 -0.07099 -0.22812 -0.06544 -0.2033 -0.05919 C -0.16146 -0.06128 -0.11944 -0.06104 -0.07778 -0.06544 C -0.03003 -0.07029 0.01528 -0.09457 0.06181 -0.10983 C 0.12379 -0.15399 0.1257 -0.14151 0.15556 -0.20509 C 0.16372 -0.24856 0.13958 -0.28208 0.11267 -0.30012 C 0.09774 -0.31006 0.07691 -0.30867 0.06024 -0.31076 C 0.01649 -0.30497 -0.11458 -0.30706 -0.15712 -0.24717 C -0.1599 -0.22659 -0.15799 -0.22012 -0.14132 -0.20717 C -0.10868 -0.18151 -0.07812 -0.17711 -0.04132 -0.16902 C 0.02934 -0.17272 0.14254 -0.16717 0.17448 -0.27469 C 0.17396 -0.28185 0.17448 -0.28925 0.17292 -0.29596 C 0.17083 -0.30497 0.15955 -0.30867 0.15399 -0.31076 C 0.12153 -0.32347 0.13837 -0.31977 0.11267 -0.32347 C 0.01649 -0.32232 -0.05121 -0.33526 -0.13819 -0.3022 C -0.15851 -0.29457 -0.1783 -0.2837 -0.19687 -0.27052 C -0.20816 -0.26243 -0.22708 -0.23885 -0.22708 -0.23885 C -0.225 -0.23168 -0.225 -0.22243 -0.22066 -0.21758 C -0.20191 -0.1963 -0.17569 -0.20185 -0.15399 -0.2007 C -0.12708 -0.20486 -0.09983 -0.2074 -0.07309 -0.21341 C -0.02552 -0.22405 0.03767 -0.27607 0.06337 -0.33388 C 0.06233 -0.34382 0.0625 -0.35399 0.06024 -0.36347 C 0.05625 -0.37989 0.02274 -0.38197 0.0158 -0.38266 C -0.05486 -0.37526 -0.10243 -0.36879 -0.15712 -0.31284 C -0.1783 -0.26382 -0.17326 -0.23445 -0.13663 -0.19862 C -0.09219 -0.15515 -0.06354 -0.13249 -0.00955 -0.12463 C 0.02379 -0.12879 0.05729 -0.13133 0.09045 -0.13734 C 0.09601 -0.13827 0.10104 -0.14266 0.10625 -0.1459 C 0.15833 -0.17804 0.18056 -0.19445 0.21111 -0.25989 C 0.21267 -0.27815 0.21337 -0.28948 0.20469 -0.30428 C 0.14323 -0.29688 0.09323 -0.27862 0.03646 -0.24093 C 0.00556 -0.22035 -0.02899 -0.20671 -0.05555 -0.17758 C -0.08941 -0.14035 -0.11597 -0.11723 -0.13021 -0.05919 C -0.12865 -0.04578 -0.12812 -0.03214 -0.12552 -0.01896 C -0.11771 0.01965 -0.06858 0.03953 -0.04444 0.05086 C -0.02483 0.04948 -0.00503 0.05133 0.01424 0.04647 C 0.03351 0.04161 0.05052 0.02635 0.06979 0.02127 C 0.07934 0.01271 0.08924 0.00508 0.09844 -0.00417 C 0.10885 -0.0148 0.12847 -0.03792 0.12847 -0.03792 C 0.1316 -0.04578 0.13976 -0.05272 0.13802 -0.06128 C 0.13594 -0.07122 0.13629 -0.08255 0.13177 -0.09087 C 0.12778 -0.09827 0.12014 -0.10081 0.11424 -0.10567 C 0.09201 -0.12463 0.06701 -0.12763 0.04115 -0.1311 C 0.02639 -0.13318 0.01146 -0.13388 -0.0033 -0.13526 C -0.05833 -0.13018 -0.13108 -0.14914 -0.16667 -0.07815 C -0.16562 -0.0696 -0.16615 -0.06058 -0.16354 -0.05272 C -0.13819 0.02104 -0.04444 0.02335 0.00469 0.02751 C 0.05243 0.0252 0.12188 0.03722 0.15399 -0.02521 C 0.15174 -0.03492 0.15226 -0.04671 0.14757 -0.0548 C 0.12413 -0.09619 0.07431 -0.09596 0.04115 -0.09919 C -0.07812 -0.09734 -0.06944 -0.1163 -0.14132 -0.07399 C -0.14392 -0.06914 -0.14792 -0.06497 -0.1493 -0.05919 C -0.15121 -0.05087 -0.14722 -0.04417 -0.14288 -0.04 C -0.11233 -0.01087 -0.10035 -0.00532 -0.06198 0.00208 C -0.04305 0.00578 -0.02396 0.00786 -0.00486 0.01063 C 0.04757 0.00994 0.09983 0.01063 0.15226 0.00855 C 0.15417 0.00855 0.14931 0.00531 0.14757 0.00439 C 0.14028 0.00092 0.13281 -0.00139 0.12535 -0.00417 C 0.11823 -0.00694 0.11059 -0.00555 0.10313 -0.00625 C 0.06667 -0.0222 -0.03871 -0.00763 0.05556 -0.02521 C 0.06181 -0.02636 0.06823 -0.02682 0.07448 -0.02752 C 0.12639 -0.04139 0.16771 -0.05064 0.21736 -0.06128 C 0.2257 -0.06497 0.23455 -0.0659 0.24288 -0.0696 C 0.24427 -0.07029 0.24757 -0.07422 0.24601 -0.07399 C 0.23212 -0.07191 0.225 -0.06474 0.21267 -0.05711 C 0.20208 -0.05041 0.19149 -0.04139 0.1809 -0.03584 C 0.17465 -0.0326 0.16806 -0.03076 0.16181 -0.02752 C 0.16233 -0.02474 0.16198 -0.02128 0.16337 -0.01896 C 0.16597 -0.01457 0.17361 -0.01919 0.16337 -0.0148 C 0.14913 -0.01711 0.13663 -0.02336 0.12222 -0.02521 C 0.11163 -0.02659 0.10104 -0.02682 0.09045 -0.02752 C 0.09635 -0.03214 0.10139 -0.03723 0.10781 -0.04 C 0.10729 -0.04208 0.10781 -0.04532 0.10625 -0.04648 C 0.10243 -0.04925 0.09705 -0.03654 0.0967 -0.03584 C 0.09618 -0.03376 0.09497 -0.03168 0.09514 -0.0296 C 0.09549 -0.02521 0.09896 -0.02128 0.09844 -0.01688 C 0.09826 -0.01457 0.09514 -0.0155 0.09358 -0.0148 C 0.09149 -0.01411 0.08941 -0.01341 0.08733 -0.01272 C 0.08385 -0.02497 0.09254 -0.02613 0.10156 -0.0296 C 0.11354 -0.03399 0.12604 -0.03607 0.13802 -0.04 C 0.12951 -0.01734 0.11441 -0.00162 0.10625 0.02127 C 0.09809 0.04439 0.08247 0.09086 0.08247 0.09086 C 0.08038 0.10774 0.0809 0.12508 0.07778 0.14173 C 0.07934 0.14797 0.07847 0.15653 0.08247 0.16069 C 0.08507 0.16346 0.08889 0.15815 0.09201 0.15653 C 0.09635 0.15445 0.10052 0.15214 0.10469 0.15005 C 0.11823 0.1267 0.1349 0.10959 0.14757 0.08462 C 0.16476 0.05086 0.17413 0.01618 0.1809 -0.02313 C 0.17726 -0.05203 0.17639 -0.08185 0.16979 -0.10983 C 0.16806 -0.117 0.16267 -0.1244 0.15712 -0.12463 C 0.14254 -0.12509 0.12847 -0.11607 0.11424 -0.11191 C 0.09201 -0.09526 0.11007 -0.11076 0.0809 -0.07191 C 0.07326 -0.06174 0.06424 -0.05318 0.05712 -0.04232 C 0.05347 -0.03677 0.05226 -0.02914 0.04913 -0.02313 C 0.04167 -0.00856 0.02535 0.01919 0.02535 0.01919 C 0.02222 0.03052 0.01736 0.04115 0.0158 0.05294 C 0.0099 0.09803 0.04514 0.11815 0.07135 0.12693 C 0.0783 0.12555 0.08524 0.12485 0.09201 0.12277 C 0.10295 0.1193 0.11163 0.1082 0.12066 0.09942 C 0.15035 0.07098 0.16649 0.03052 0.1809 -0.01272 C 0.18646 -0.05688 0.18924 -0.11422 0.14913 -0.12463 C 0.10243 -0.11908 0.06719 -0.07006 0.03646 -0.02752 C 0.02448 -0.0111 0.0099 0.00254 0 0.02127 C -0.01042 0.04115 -0.02378 0.0867 -0.02378 0.0867 C -0.02621 0.11075 -0.02917 0.13063 -0.02222 0.15653 C -0.00781 0.20994 0.0434 0.2326 0.0809 0.23884 C 0.09097 0.23607 0.10104 0.23375 0.11111 0.23052 C 0.11441 0.22959 0.11823 0.22936 0.12066 0.22635 C 0.13212 0.21294 0.15226 0.18196 0.15226 0.18196 C 0.15851 0.16277 0.16146 0.14242 0.16667 0.12277 C 0.16563 0.0904 0.16476 0.0578 0.16337 0.02543 C 0.1632 0.01988 0.16337 0.01387 0.16181 0.00855 C 0.15764 -0.00486 0.15156 -0.01711 0.14601 -0.0296 C 0.12483 -0.077 0.12049 -0.08255 0.08247 -0.09919 C 0.06441 -0.09642 0.04549 -0.09896 0.02847 -0.09087 C 0.0092 -0.08162 -0.00694 -0.06382 -0.02378 -0.04856 C -0.06892 -0.00763 -0.12552 0.04092 -0.1493 0.11005 C -0.1559 0.12924 -0.16094 0.14959 -0.16667 0.16924 C -0.17465 0.23075 -0.16753 0.27329 -0.13177 0.31514 C -0.12917 0.31815 -0.12691 0.32208 -0.12378 0.32346 C -0.11771 0.32624 -0.11111 0.32624 -0.10486 0.32763 C -0.09687 0.32555 -0.08889 0.32416 -0.08108 0.32138 C -0.06667 0.31607 -0.05729 0.29664 -0.04774 0.28115 C -0.03333 0.2578 -0.02621 0.23768 -0.0191 0.20924 C -0.01753 0.16716 -0.01649 0.14196 -0.03663 0.10797 C -0.04184 0.09942 -0.05121 0.09757 -0.05885 0.09318 C -0.0816 0.10011 -0.10503 0.10404 -0.12708 0.11422 C -0.16615 0.13225 -0.20573 0.17849 -0.22865 0.22196 C -0.23767 0.23884 -0.24826 0.25456 -0.25555 0.27283 C -0.26371 0.29294 -0.27465 0.33618 -0.27465 0.33618 C -0.27569 0.35375 -0.27639 0.37156 -0.27778 0.38913 C -0.27847 0.39838 -0.27969 0.4074 -0.28108 0.41641 C -0.28142 0.41872 -0.28125 0.4215 -0.28264 0.42289 C -0.28437 0.42474 -0.2868 0.42427 -0.28889 0.42497 C -0.29948 0.41133 -0.31024 0.40393 -0.3191 0.38682 C -0.35035 0.3267 -0.36285 0.25479 -0.39045 0.19237 C -0.40174 0.12809 -0.41059 0.06589 -0.41441 0 C -0.41354 -0.01919 -0.41788 -0.0444 -0.40156 -0.05272 C -0.39757 -0.0548 -0.39305 -0.05573 -0.38889 -0.05711 C -0.3467 -0.03931 -0.35764 -0.04093 -0.3191 0 C -0.31424 0.00508 -0.30833 0.00786 -0.3033 0.01271 C -0.28559 0.02982 -0.26788 0.04716 -0.25087 0.06566 C -0.19653 0.12485 -0.17899 0.14682 -0.13333 0.20924 C -0.10799 0.24393 -0.07795 0.30289 -0.03819 0.30867 C -0.03281 0.30589 -0.02691 0.30474 -0.02222 0.30034 C -0.00486 0.28393 0.01684 0.24901 0.02535 0.22196 C 0.04427 0.16185 0.02674 0.20555 0.04115 0.17133 C 0.04583 0.11422 0.05799 0.01387 0.01267 -0.02104 C -0.00642 -0.03584 0.00573 -0.02821 -0.02552 -0.03792 C -0.04514 -0.03723 -0.06493 -0.04047 -0.0842 -0.03584 C -0.14774 -0.02058 -0.19479 0.04069 -0.22708 0.11005 C -0.22656 0.12208 -0.22743 0.1341 -0.22552 0.14589 C -0.21736 0.19815 -0.13212 0.21063 -0.10799 0.21572 C -0.07049 0.21086 -0.03246 0.20971 0.00469 0.20092 C 0.05347 0.18936 0.14913 0.15445 0.14913 0.15445 C 0.20504 0.11306 0.24774 0.08601 0.28559 0.01687 C 0.29618 -0.0296 0.3099 -0.08162 0.28403 -0.12671 C 0.27743 -0.13827 0.26458 -0.16185 0.25399 -0.16902 C 0.24792 -0.17295 0.2349 -0.17758 0.2349 -0.17758 C 0.17986 -0.16116 0.12257 -0.11607 0.07934 -0.06752 C 0.06042 -0.04625 0.03854 -0.02775 0.02535 0 C 0.01858 0.0141 0.01372 0.02959 0.00781 0.04439 C 0.00938 0.05919 0.00764 0.07537 0.01267 0.08878 C 0.01771 0.10219 0.02691 0.11283 0.03646 0.12046 C 0.10365 0.17456 0.12083 0.16901 0.19844 0.17341 C 0.30278 0.15445 0.37622 0.1445 0.45556 0.05086 C 0.46597 0.03838 0.48472 -0.01087 0.48733 -0.01688 C 0.48958 -0.0326 0.4941 -0.05989 0.49358 -0.07399 C 0.49306 -0.08763 0.49028 -0.10104 0.48733 -0.11399 C 0.47622 -0.16162 0.43767 -0.17249 0.40625 -0.17758 C 0.31458 -0.16417 0.31788 -0.17041 0.22691 -0.13318 C 0.18351 -0.11538 0.14618 -0.07746 0.10625 -0.04856 C 0.06892 -0.02151 0.06424 -0.01365 0.04288 0.01479 C 0.03976 0.02404 0.03403 0.03214 0.03333 0.04231 C 0.03212 0.06196 0.04115 0.06774 0.0507 0.07607 C 0.10122 0.1193 0.09705 0.1126 0.15868 0.12277 C 0.20399 0.11491 0.23681 0.12092 0.26979 0.08046 C 0.2757 0.07329 0.27934 0.06358 0.28403 0.05503 C 0.29219 -0.02243 0.2316 -0.06382 0.18889 -0.09503 C 0.16754 -0.11076 0.14601 -0.12602 0.12379 -0.13943 C 0.11458 -0.14497 0.10469 -0.14798 0.09514 -0.15214 C 0.08941 -0.15145 0.08333 -0.15214 0.07778 -0.15006 C 0.06354 -0.14497 0.04844 -0.10659 0.04115 -0.09295 C 0.02917 -0.07052 0.0099 -0.0437 0.00313 -0.01688 C 0.00469 -0.01133 0.00434 -0.0037 0.00781 0 C 0.03733 0.03052 0.09392 0.00208 0.11736 -0.00208 C 0.2559 -0.06197 0.28872 -0.06798 0.41267 -0.19029 C 0.4632 -0.24 0.46927 -0.24 0.49514 -0.3022 C 0.49618 -0.31284 0.49844 -0.32324 0.49844 -0.33388 C 0.49844 -0.35237 0.47083 -0.37873 0.46823 -0.38035 C 0.42483 -0.4081 0.42708 -0.40532 0.37778 -0.40786 C 0.35608 -0.40578 0.33403 -0.40763 0.31267 -0.40162 C 0.29115 -0.39561 0.27118 -0.38266 0.2507 -0.37203 C 0.19688 -0.34405 0.14983 -0.32833 0.11892 -0.26197 C 0.11632 -0.24648 0.10747 -0.21457 0.11892 -0.2007 C 0.12344 -0.19515 0.12847 -0.19076 0.13333 -0.1859 C 0.1349 -0.18451 0.13611 -0.1822 0.13802 -0.18174 C 0.14375 -0.18012 0.14965 -0.18035 0.15556 -0.17966 C 0.175 -0.18659 0.19445 -0.19052 0.21111 -0.20717 C 0.22066 -0.21665 0.23646 -0.24093 0.23646 -0.24093 C 0.24757 -0.28532 0.21406 -0.3207 0.18403 -0.32555 C 0.11806 -0.3563 0.10504 -0.34081 0.01267 -0.33596 C -0.04601 -0.31977 -0.10208 -0.30983 -0.16042 -0.29388 C -0.19427 -0.27122 -0.1868 -0.28671 -0.19531 -0.26428 C -0.19167 -0.2585 -0.18924 -0.25041 -0.1842 -0.24717 C -0.16267 -0.2333 -0.15052 -0.23307 -0.13021 -0.23029 C -0.07257 -0.237 -0.01962 -0.23029 0.03004 -0.26844 C 0.02379 -0.30243 0.00469 -0.31607 -0.01753 -0.3318 C -0.03854 -0.34659 -0.0592 -0.35954 -0.08264 -0.36555 C -0.13038 -0.36393 -0.1434 -0.36717 -0.18264 -0.35076 C -0.1868 -0.34659 -0.19149 -0.34289 -0.19531 -0.33827 C -0.1967 -0.33665 -0.2 -0.33341 -0.19844 -0.3318 C -0.16944 -0.30336 -0.13958 -0.30775 -0.10486 -0.30636 C -0.07847 -0.30775 -0.05174 -0.30636 -0.02552 -0.31076 C -0.00121 -0.31492 0.02205 -0.32555 0.04583 -0.3318 C 0.05122 -0.33318 0.0566 -0.33318 0.06181 -0.33388 C 0.07795 -0.34613 0.08524 -0.34729 0.09358 -0.36555 C 0.08177 -0.38428 0.08316 -0.3822 0.06337 -0.38682 C 0.01458 -0.38521 -0.0118 -0.38359 -0.05712 -0.37411 C -0.08507 -0.36833 -0.11042 -0.36671 -0.13333 -0.34243 C -0.1217 -0.32347 -0.1224 -0.3281 -0.1033 -0.32555 C -0.09028 -0.32717 -0.07639 -0.32671 -0.06354 -0.3318 C -0.0566 -0.33457 -0.04288 -0.34035 -0.04288 -0.34035 C -0.03385 -0.35839 -0.06354 -0.36023 -0.06996 -0.36347 C -0.07413 -0.36555 -0.07812 -0.36879 -0.08264 -0.36995 C -0.09305 -0.37249 -0.10382 -0.37295 -0.11441 -0.37411 C -0.12865 -0.37573 -0.14288 -0.37688 -0.15712 -0.37827 C -0.18837 -0.37758 -0.21962 -0.37873 -0.25087 -0.37619 C -0.25312 -0.37596 -0.25521 -0.37295 -0.25555 -0.36995 C -0.2566 -0.36162 -0.24444 -0.36093 -0.23819 -0.35931 C -0.22969 -0.357 -0.21267 -0.35307 -0.21267 -0.35307 C -0.18264 -0.35561 -0.13958 -0.35538 -0.17621 -0.36347 C -0.19427 -0.37804 -0.17674 -0.36578 -0.21441 -0.37619 C -0.25087 -0.38636 -0.2868 -0.39492 -0.32378 -0.40162 C -0.33507 -0.40578 -0.35851 -0.41642 -0.36667 -0.4037 C -0.37187 -0.39561 -0.35243 -0.39284 -0.34444 -0.39099 C -0.33229 -0.38821 -0.30799 -0.38266 -0.30799 -0.38266 C -0.26875 -0.38613 -0.22951 -0.38867 -0.19045 -0.39307 C -0.17378 -0.39492 -0.17604 -0.39168 -0.17309 -0.4037 C -0.18055 -0.41388 -0.18333 -0.41596 -0.19375 -0.42058 C -0.20868 -0.41619 -0.21528 -0.41272 -0.22378 -0.39515 C -0.22222 -0.38821 -0.2224 -0.37989 -0.2191 -0.37411 C -0.21667 -0.36995 -0.2118 -0.36948 -0.20799 -0.36786 C -0.13958 -0.33758 -0.16684 -0.34775 -0.0842 -0.33827 C 0.03056 -0.34313 0.07882 -0.32786 0.1651 -0.36555 C 0.12691 -0.4 0.07292 -0.37018 0.02691 -0.36786 C -0.0349 -0.34821 -0.09618 -0.34197 -0.13663 -0.27052 C -0.14201 -0.24116 -0.10295 -0.20347 -0.08889 -0.19237 C -0.00503000000000001 -0.12602 0.06441 -0.08971 0.16181 -0.08023 C 0.17083 -0.08162 0.18004 -0.08232 0.18889 -0.0844 C 0.19167 -0.08509 0.19601 -0.08509 0.1967 -0.08879 C 0.19879 -0.09989 0.17222 -0.12347 0.1651 -0.12879 C 0.14514 -0.14405 0.12535 -0.15977 0.10469 -0.17318 C 0.0125 -0.2326 0.00139 -0.2326 -0.09687 -0.24717 C -0.14444 -0.24625 -0.20972 -0.26151 -0.25399 -0.22197 C -0.25746 -0.20786 -0.24288 -0.20255 -0.2349 -0.19862 C -0.2217 -0.19214 -0.20885 -0.18451 -0.19531 -0.17966 C -0.1158 -0.15168 -0.03264 -0.13619 0.04913 -0.12671 C 0.05451 -0.12532 0.05972 -0.1237 0.0651 -0.12255 C 0.06927 -0.12162 0.0809 -0.1244 0.07778 -0.12047 C 0.07344 -0.11492 0.06615 -0.11769 0.06024 -0.1163 C -0.02378 -0.1244 -0.10799 -0.13457 -0.19219 -0.12879 C -0.14896 -0.11492 -0.18333 -0.12717 -0.09531 -0.0696 C -0.00398999999999999 -0.00971 0.12413 0.03352 0.22222 0.06358 C 0.27205 0.07884 0.32188 0.1015 0.37292 0.1015 C 0.3783 0.1015 0.36233 0.09942 0.35712 0.09734 C 0.3316 0.0867 0.31649 0.0763 0.29201 0.06774 C 0.23698 0.04855 0.20174 0.04023 0.14601 0.03607 C 0.12379 0.03838 0.12344 0.03514 0.10781 0.05294 C 0.10833 0.06219 0.10729 0.07167 0.10955 0.08046 C 0.11267 0.09271 0.1184 0.10335 0.12379 0.11422 C 0.14167 0.15029 0.16754 0.19537 0.2 0.20924 C 0.19531 0.18427 0.13681 0.13641 0.12379 0.12693 C 0.08854 0.10127 0.05191 0.07884 0.0158 0.05503 C -0.00694 0.04 -0.02882 0.02242 -0.05243 0.01063 C -0.07674 -0.00162 -0.09861 -0.01434 -0.12066 -0.03376 C -0.12951 -0.05156 -0.13003 -0.0481 -0.09045 -0.0548 C -0.04861 -0.06197 -0.00694 -0.06891 0.0349 -0.07607 C 0.05608 -0.07977 0.07691 -0.08648 0.09844 -0.08879 C 0.1 -0.08948 0.10434 -0.09226 0.10313 -0.09087 C 0.09948 -0.08648 0.08663 -0.08324 0.08403 -0.08232 C 0.075 -0.07954 0.06615 -0.07677 0.05712 -0.07399 C 0.02587 -0.05388 -0.00555 -0.03538 -0.03663 -0.0148 C -0.05069 0.00393 -0.06701 0.01942 -0.08108 0.03815 C -0.09132 0.05202 -0.0941 0.07306 -0.1 0.09086 C -0.09687 0.11283 -0.09531 0.13526 -0.09045 0.15653 C -0.08941 0.16138 -0.08559 0.16416 -0.08264 0.16716 C -0.075 0.17526 -0.06649 0.18219 -0.05885 0.19029 C -0.0368 0.21341 -0.08368 0.18266 -0.02066 0.21156 C 0.00885 0.22497 0.02517 0.2289 0.05556 0.2326 C 0.0566 0.23052 0.05903 0.2289 0.05868 0.22635 C 0.05729 0.21687 0.04826 0.19838 0.04115 0.19445 C 0.03767 0.1926 0.03368 0.19306 0.03004 0.19237 C 0.02743 0.19029 0.025 0.18797 0.02222 0.18612 C 0.02066 0.1852 0.01632 0.18589 0.01736 0.18404 C 0.02083 0.17757 0.03142 0.17664 0.03646 0.17549 C 0.10868 0.17803 0.17274 0.18566 0.24601 0.18404 C 0.23212 0.17849 0.20538 0.16092 0.19514 0.15445 C 0.19063 0.15167 0.18733 0.14543 0.18247 0.14381 C 0.14497 0.13063 0.1059 0.13202 0.06823 0.12046 C 0.05017 0.12115 0.03177 0.11745 0.01424 0.12277 C 0.00295 0.12624 -0.01597 0.14589 -0.01597 0.14589 C -0.01892 0.1519 -0.03073 0.17318 -0.03177 0.18196 C -0.03212 0.18497 -0.02969 0.18751 -0.02865 0.19029 C 0.00052 0.17896 0.02188 0.15121 0.04757 0.13109 C 0.17031 0.03491 0.03924 0.14104 0.14445 0.04647 C 0.18004 0.01433 0.16024 0.05156 0.20781 -0.01041 C 0.22656 -0.03492 0.24063 -0.06798 0.25226 -0.09919 C 0.25122 -0.10914 0.25104 -0.11908 0.24913 -0.12879 C 0.24306 -0.15815 0.2099 -0.16093 0.19358 -0.16486 C 0.1809 -0.16417 0.16823 -0.16463 0.15556 -0.16278 C 0.14948 -0.16185 0.14358 -0.15977 0.13802 -0.1563 C 0.11285 -0.14081 0.04028 -0.09665 0.02066 -0.05919 C 0.0151 -0.04856 0.01111 -0.03654 0.00625 -0.02521 C 0.00677 -0.01318 0.00451 -0.00047 0.00781 0.01063 C 0.02118 0.05618 0.03611 0.05572 0.06667 0.07838 C 0.08993 0.09595 0.11406 0.11977 0.14115 0.12485 C 0.16111 0.12855 0.18142 0.12832 0.20156 0.13109 C 0.21059 0.12901 0.21997 0.12924 0.22847 0.12485 C 0.24236 0.11768 0.24792 0.10659 0.25399 0.09086 C 0.25243 0.07953 0.25347 0.06705 0.24913 0.05711 C 0.23941 0.03514 0.2316 0.03098 0.21736 0.02543 C 0.1691 0.0067 0.13611 0.00531 0.08403 0.00208 C 0.00833 0.00346 -0.06736 0.00161 -0.14288 0.00647 C -0.15608 0.0074 -0.1684 0.01503 -0.18108 0.01919 C -0.18368 0.02011 -0.18628 0.02034 -0.18889 0.02127 C -0.19062 0.02173 -0.19375 0.02566 -0.19375 0.02335 C -0.19375 0.01734 -0.18542 0.01849 -0.18108 0.01687 C -0.17569 0.01503 -0.17031 0.01294 -0.1651 0.01063 C -0.07847 -0.0259 -0.14201 -0.00278 -0.08108 -0.02104 C 0.00608 -0.0474 0.07083 -0.07746 0.15226 -0.12671 C 0.15764 -0.13388 0.16285 -0.14081 0.16823 -0.14798 C 0.17066 -0.15122 0.16754 -0.15769 0.1651 -0.1607 C 0.1592 -0.1681 0.15243 -0.17711 0.14445 -0.17758 C 0.09844 -0.18058 0.12326 -0.17873 0.06979 -0.18382 C 0.06493 -0.18313 -0.01684 -0.1755 -0.04288 -0.16278 C -0.07569 -0.14682 -0.10486 -0.12602 -0.1349 -0.10359 C -0.13646 -0.10012 -0.13976 -0.09711 -0.13976 -0.09295 C -0.13976 -0.07307 -0.11736 -0.07677 -0.10642 -0.07191 C -0.01701 -0.09203 0.03681 -0.07445 0.08403 -0.16486 C 0.08507 -0.17041 0.08733 -0.17596 0.08733 -0.18174 C 0.08733 -0.2148 0.06458 -0.21827 0.04583 -0.22405 C -0.04375 -0.21341 -0.05417 -0.21827 -0.12378 -0.18174 C -0.15399 -0.14844 -0.14566 -0.16393 -0.15555 -0.14359 C -0.15347 -0.13804 -0.15295 -0.13064 -0.1493 -0.12671 C -0.14549 -0.12255 -0.12535 -0.11607 -0.1191 -0.11399 C -0.04479 -0.12023 -0.01719 -0.11977 0.04583 -0.14151 C 0.07153 -0.15954 0.0783 -0.16232 0.09514 -0.18798 C 0.10399 -0.23607 0.07847 -0.24786 0.0507 -0.25573 C 0.03698 -0.25365 0.02292 -0.25434 0.00955 -0.24948 C -0.02274 -0.23792 -0.06319 -0.2111 -0.09531 -0.19445 C -0.10642 -0.18867 -0.11528 -0.17688 -0.12552 -0.16902 C -0.1441 -0.15469 -0.15885 -0.1459 -0.17153 -0.12255 C -0.1684 -0.11561 -0.16632 -0.10729 -0.16198 -0.10151 C -0.15156 -0.08763 -0.13003 -0.08786 -0.11753 -0.08671 C -0.04913 -0.09943 0.02118 -0.1318 0.07135 -0.19862 C 0.07708 -0.21526 0.08108 -0.22474 0.08403 -0.24093 C 0.07587 -0.26867 0.07153 -0.25758 0.04288 -0.25573 C -0.00972 -0.23006 -0.07951 -0.18359 -0.11111 -0.12047 C -0.11632 -0.09156 -0.07448 -0.10914 -0.06823 -0.10983 C -0.01389 -0.1244 0.03351 -0.13758 0.08889 -0.15422 C 0.14688 -0.1718 0.20295 -0.18382 0.25399 -0.22821 C 0.2625 -0.23561 0.23385 -0.22682 0.22379 -0.22613 C 0.1434 -0.21434 0.06181 -0.18659 -0.01753 -0.16486 C -0.07309 -0.12786 -0.1224 -0.10266 -0.16996 -0.05064 C -0.19462 -0.02359 -0.20035 -0.0185 -0.21111 0.01063 C -0.18924 0.02242 -0.14983 -0.00578 -0.13021 -0.0148 C -0.12604 -0.01896 -0.12222 -0.02405 -0.11753 -0.02752 C -0.10677 -0.03538 -0.09444 -0.03954 -0.0842 -0.04856 C -0.07483 -0.05665 -0.06753 -0.06867 -0.05885 -0.07815 C -0.05642 -0.0807 -0.05347 -0.08232 -0.05087 -0.0844 C -0.0467 -0.09365 -0.04236 -0.10266 -0.03819 -0.11191 C -0.03698 -0.11469 -0.03455 -0.11723 -0.0349 -0.12047 C -0.03663 -0.13781 -0.03976 -0.15492 -0.04444 -0.1711 C -0.05208 -0.19746 -0.05174 -0.18844 -0.06354 -0.19654 C -0.10052 -0.22243 -0.09184 -0.2148 -0.13976 -0.21989 C -0.16771 -0.21411 -0.19583 -0.20948 -0.22378 -0.20278 C -0.26649 -0.19237 -0.30295 -0.14798 -0.33021 -0.10567 C -0.3401 -0.07284 -0.35347 -0.0326 -0.32378 -0.00833 C -0.31996 -0.00509 -0.31528 -0.00417 -0.31111 -0.00208 C -0.30226 -0.00532 -0.29253 -0.00532 -0.2842 -0.01041 C -0.23507 -0.0407 -0.16858 -0.09272 -0.13021 -0.12671 C -0.05851 -0.19052 -0.07552 -0.17203 -0.02865 -0.23677 C -0.02587 -0.25018 -0.02292 -0.25596 -0.03177 -0.26428 C -0.04236 -0.26359 -0.05312 -0.26497 -0.06354 -0.26197 C -0.12361 -0.24463 -0.17621 -0.18359 -0.21111 -0.11839 C -0.20538 -0.10428 -0.20295 -0.08648 -0.19375 -0.07607 C -0.18628 -0.06752 -0.175 -0.06521 -0.1651 -0.06544 C -0.1158 -0.06659 -0.06667 -0.07538 -0.01753 -0.08023 C 0.01163 -0.0881 0.04149 -0.09087 0.06979 -0.10359 C 0.08038 -0.10844 0.09097 -0.11307 0.10156 -0.11839 C 0.11233 -0.1237 0.13333 -0.13526 0.13333 -0.13526 C 0.13594 -0.13804 0.13993 -0.13943 0.14115 -0.14359 C 0.14167 -0.14567 0.1382 -0.1459 0.13646 -0.1459 C 0.10208 -0.14451 0.06771 -0.14151 0.03333 -0.13943 C -0.0151 -0.12671 -0.06319 -0.1126 -0.11111 -0.09711 C -0.11962 -0.09064 -0.13299 -0.08532 -0.13663 -0.07191 C -0.11458 -0.06313 -0.09479 -0.06012 -0.07153 -0.05711 C -0.02344 -0.05989 0.02483 -0.06174 0.07292 -0.06544 C 0.09167 -0.06682 0.12847 -0.07815 0.12847 -0.07815 C 0.13264 -0.08093 0.13993 -0.0807 0.14115 -0.08671 C 0.1434 -0.09781 0.13142 -0.1022 0.12691 -0.10567 C 0.09965 -0.12694 0.08021 -0.1385 0.04757 -0.14798 C 0.04028 -0.15006 0.03281 -0.14937 0.02535 -0.15006 C -0.07882 -0.17919 -0.04288 -0.17619 -0.20156 -0.1563 C -0.21562 -0.15445 -0.24618 -0.11492 -0.25087 -0.10983 C -0.25781 -0.09341 -0.2625 -0.08578 -0.26198 -0.06336 C -0.26076 -0.01642 -0.21719 0.01896 -0.18576 0.02543 C -0.1684 0.0289 -0.15087 0.02682 -0.13333 0.02751 C -0.11701 0.02612 -0.10035 0.02728 -0.0842 0.02335 C -0.06944 0.01988 -0.0559 0.00924 -0.04132 0.00439 C -0.02483 -0.01249 -0.01875 -0.01573 -0.00799 -0.03584 C -0.00903 -0.04648 -0.00868 -0.05734 -0.01111 -0.06752 C -0.01198 -0.07145 -0.01458 -0.07607 -0.01753 -0.07607 C -0.0283 -0.07607 -0.05174 -0.03908 -0.05243 -0.03792 C -0.07274 -0.00116 -0.09531 0.02982 -0.10642 0.07398 C -0.1059 0.07745 -0.10694 0.08254 -0.10486 0.08462 C -0.08767 0.10196 -0.02847 0.09526 -0.02552 0.09526 C 0.08212 0.08161 0.18698 0.06936 0.28733 0.01271 C 0.29201 0.00508 0.29965 -0.000699999999999999 0.30156 -0.01041 C 0.30712 -0.03769 0.25399 -0.07376 0.2507 -0.07607 C 0.23385 -0.0874 0.21771 -0.10081 0.2 -0.10983 C 0.16927 -0.12532 0.13403 -0.13064 0.10156 -0.13734 C 0.09115 -0.13642 0.07135 -0.14081 0.07135 -0.12879 E">
                                      <p:cBhvr>
                                        <p:cTn id="164" dur="2000" fill="hold"/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833 0.02682 0.0026 -0.00324 -0.00955 0.01687 C -0.01233 0.0215 -0.01458 0.03167 -0.0191 0.03607 C -0.02743 0.04393 -0.03628 0.05086 -0.04444 0.05919 C -0.04774 0.06266 -0.05017 0.06751 -0.05399 0.06982 C -0.06979 0.07907 -0.08924 0.08439 -0.10642 0.08878 C -0.13559 0.08277 -0.13351 0.08878 -0.1493 0.06774 C -0.15365 0.0326 -0.15937 -0.00301 -0.1651 -0.03792 C -0.16424 -0.05341 -0.16389 -0.09665 -0.15712 -0.1163 C -0.1375 -0.17341 -0.09167 -0.18659 -0.0493 -0.19029 C -0.03403 -0.18821 -0.01858 -0.18706 -0.0033 -0.18382 C 0.01302 -0.18035 0.03299 -0.16417 0.04583 -0.1563 C 0.11979 -0.11191 0.19288 -0.05388 0.23802 0.03815 C 0.25 0.08855 0.24688 0.06427 0.24913 0.11005 C 0.24705 0.12786 0.24445 0.16624 0.23333 0.17757 C 0.21701 0.19398 0.20833 0.21734 0.19045 0.2326 C 0.18767 0.23491 0.18403 0.23491 0.1809 0.23676 C 0.14514 0.25803 0.17292 0.24763 0.1349 0.25803 C 0.12066 0.25618 0.10538 0.25872 0.09201 0.25156 C 0.05469 0.23121 0.02431 0.18427 0.00156 0.14173 C -0.00399 0.13156 -0.01545 0.0978 -0.01753 0.09318 C -0.02552 0.07514 -0.03715 0.05965 -0.04288 0.04023 C -0.04705 0.02635 -0.05399 -0.00208 -0.05399 -0.00208 C -0.05035 -0.04208 -0.05573 -0.04417 -0.02708 -0.04 C -0.0118 -0.02521 -0.00694 -0.000470000000000002 0.00625 0.01687 C 0.03281 0.05225 0.04375 0.06312 0.07622 0.08254 C 0.09497 0.09364 0.11632 0.0941 0.13646 0.09942 C 0.1592 0.09757 0.18403 0.10358 0.20469 0.09086 C 0.23212 0.07398 0.24896 0.04716 0.26181 0.01271 C 0.2592 -0.00833 0.25729 -0.0296 0.25399 -0.05064 C 0.2467 -0.0955 0.22222 -0.11769 0.19514 -0.14151 C 0.19254 -0.14382 0.18872 -0.14313 0.18559 -0.14359 C 0.17708 -0.14474 0.16875 -0.14521 0.16024 -0.1459 C 0.14653 -0.14521 0.13247 -0.14636 0.11892 -0.14359 C 0.02135 -0.1237 -0.06285 0.02566 -0.12066 0.11838 C -0.20035 0.24624 -0.13924 0.17641 -0.19375 0.23468 C -0.20399 0.24578 -0.26649 0.25503 -0.27153 0.25595 C -0.35625 0.23653 -0.35035 0.24693 -0.40955 0.19445 C -0.43368 0.13896 -0.41701 0.08 -0.4 0.02543 C -0.38819 -0.01226 -0.3526 -0.07445 -0.34444 -0.09087 C -0.3375 -0.10474 -0.29201 -0.17919 -0.27778 -0.19654 C -0.27014 -0.20578 -0.26042 -0.21133 -0.25243 -0.21989 C -0.21927 -0.25503 -0.2184 -0.26151 -0.17621 -0.26844 C -0.14236 -0.26497 -0.10833 -0.26336 -0.07465 -0.25781 C -0.05191 -0.25411 0.01476 -0.21457 0.02066 -0.21133 C 0.07865 -0.17804 0.13229 -0.13642 0.17778 -0.07815 C 0.20885 -0.03839 0.22708 0.000460000000000002 0.2507 0.04647 C 0.2566 0.0578 0.26094 0.07075 0.26823 0.08046 C 0.2724 0.08624 0.28247 0.09526 0.28247 0.09526 C 0.28941 0.09179 0.29653 0.08901 0.30313 0.08462 C 0.31806 0.07468 0.3283 0.05341 0.33802 0.03607 C 0.35538 0.00531 0.36146 -0.00856 0.37135 -0.0444 C 0.3724 -0.05434 0.37448 -0.06405 0.37448 -0.07399 C 0.37448 -0.08463 0.36285 -0.11954 0.36181 -0.12255 C 0.34514 -0.1718 0.3125 -0.19145 0.27934 -0.2155 C 0.27604 -0.21804 0.27344 -0.22243 0.26979 -0.22405 C 0.25052 -0.23214 0.22292 -0.23399 0.20313 -0.23677 C 0.18507 -0.2333 0.16684 -0.23168 0.14913 -0.22613 C 0.07153 -0.20162 0.00399 -0.13619 -0.04601 -0.0548 C -0.08924 0.01549 -0.11302 0.09364 -0.14444 0.17341 C -0.1566 0.20393 -0.15851 0.21711 -0.18264 0.2474 C -0.20764 0.27884 -0.25712 0.31792 -0.28889 0.33618 C -0.29479 0.33965 -0.30174 0.33872 -0.30799 0.34034 C -0.3224 0.34427 -0.33663 0.3489 -0.35087 0.35306 C -0.39792 0.34173 -0.40365 0.35098 -0.43021 0.31075 C -0.44392 0.20023 -0.37413 0.09919 -0.33021 0.01687 C -0.29948 -0.0407 -0.2691 -0.10844 -0.23177 -0.15839 C -0.21597 -0.17966 -0.19878 -0.19931 -0.1842 -0.22197 C -0.16371 -0.25365 -0.14549 -0.27469 -0.11753 -0.29156 C -0.0868 -0.28948 -0.05521 -0.2955 -0.02552 -0.28532 C 0.00608 -0.27469 0.03368 -0.24833 0.06337 -0.23029 C 0.13542 -0.18636 0.21076 -0.11168 0.23958 -0.01041 C 0.24427 0.02728 0.24809 0.07607 0.27622 0.09526 C 0.2901 0.09294 0.29271 0.09618 0.30156 0.07607 C 0.30868 0.06011 0.31892 0.02543 0.31892 0.02543 C 0.32465 -0.02266 0.32691 -0.02151 0.32066 -0.07815 C 0.31788 -0.10382 0.29149 -0.14729 0.28559 -0.15839 C 0.27326 -0.18128 0.24809 -0.20602 0.2349 -0.21989 C 0.1901 -0.26729 0.17031 -0.28301 0.11267 -0.28948 C 0.06198 -0.28116 0.02517 -0.22844 -0.00955 -0.18382 C -0.05469 -0.12578 -0.08524 -0.07445 -0.1033 0.00439 C -0.10486 0.01988 -0.10903 0.03537 -0.10799 0.05086 C -0.10278 0.12786 -0.04826 0.18543 0 0.21572 C 0.02639 0.23237 0.05695 0.23167 0.08559 0.23884 C 0.12431 0.2319 0.1632 0.22705 0.20156 0.2178 C 0.22222 0.21271 0.23715 0.18797 0.25399 0.17133 C 0.3151 0.11098 0.33854 0.00439000000000001 0.36024 -0.08671 C 0.36163 -0.12648 0.36441 -0.12763 0.35712 -0.16278 C 0.35486 -0.17411 0.33333 -0.17758 0.33333 -0.17758 C 0.29601 -0.17272 0.28576 -0.15677 0.26024 -0.11839 C 0.2507 -0.08602 0.2441 -0.05318 0.23958 -0.01896 C 0.2401 0.00716 0.23698 0.03375 0.24115 0.05919 C 0.24566 0.08624 0.28125 0.17063 0.29358 0.19029 C 0.30695 0.21179 0.31979 0.23815 0.33958 0.2474 C 0.35017 0.25225 0.37135 0.26219 0.37135 0.26219 C 0.37934 0.25803 0.38767 0.25503 0.39514 0.24948 C 0.40833 0.23977 0.4151 0.21872 0.42222 0.20092 C 0.43976 0.15699 0.4434 0.14057 0.45399 0.1015 C 0.46198 0.02797 0.46615 -0.03122 0.46979 -0.10567 C 0.45747 -0.17041 0.43212 -0.23584 0.40469 -0.29156 C 0.4007 -0.29943 0.39462 -0.30497 0.38889 -0.31076 C 0.35729 -0.3422 0.29583 -0.40532 0.25399 -0.41642 C 0.24201 -0.41966 0.22951 -0.41919 0.21736 -0.42058 C 0.15781 -0.40301 0.18767 -0.41642 0.12847 -0.37827 C 0.09445 -0.3563 0.07413 -0.31792 0.04445 -0.28948 C 0.03351 -0.26035 0.02899 -0.25573 0.02691 -0.22405 C 0.02448 -0.18891 0.06302 -0.15885 0.08403 -0.14798 C 0.08906 -0.14544 0.09462 -0.14659 0.1 -0.1459 C 0.1191 -0.14729 0.13837 -0.14544 0.15712 -0.15006 C 0.19566 -0.15977 0.22726 -0.197 0.25399 -0.23237 C 0.25764 -0.24786 0.26788 -0.26313 0.2651 -0.27908 C 0.26198 -0.29734 0.26024 -0.31607 0.25556 -0.33388 C 0.2526 -0.34544 0.22778 -0.35307 0.22066 -0.35515 C 0.15712 -0.35237 0.16927 -0.35723 0.09201 -0.32555 C -0.00191 -0.28717 -0.07031 -0.26266 -0.1349 -0.1607 C -0.13594 -0.15422 -0.13889 -0.14798 -0.13819 -0.14151 C -0.13611 -0.1207 -0.13316 -0.09966 -0.12708 -0.08023 C -0.12535 -0.07469 -0.11996 -0.0726 -0.11597 -0.0696 C -0.05469 -0.02359 -0.08038 -0.03492 -0.01441 -0.0296 C 0.03594 -0.04162 0.09688 -0.0518 0.12535 -0.1163 C 0.12691 -0.12625 0.13021 -0.13573 0.13004 -0.1459 C 0.12813 -0.22428 0.07188 -0.23191 0.02691 -0.24093 C -0.10174 -0.23469 -0.12934 -0.23908 -0.23021 -0.20925 C -0.24566 -0.19769 -0.25885 -0.19654 -0.26198 -0.1755 C -0.2401 -0.14197 -0.22865 -0.15006 -0.19045 -0.14151 C -0.11736 -0.14752 -0.08611 -0.14405 -0.02066 -0.16694 C -0.00139 -0.17365 0.01441 -0.19191 0.03177 -0.20509 C 0.03785 -0.21457 0.05087 -0.23353 0.05226 -0.24509 C 0.05747 -0.28717 0.03368 -0.32116 0.00955 -0.34243 C 0.00295 -0.34821 -0.00538 -0.34914 -0.01267 -0.35307 C -0.10156 -0.3385 -0.17812 -0.34151 -0.24132 -0.24717 C -0.24253 -0.23862 -0.24583 -0.21919 -0.24444 -0.21341 C -0.23108 -0.15769 -0.17396 -0.14544 -0.13819 -0.13734 C -0.07795 -0.15492 -0.08924 -0.14567 -0.04774 -0.19445 C -0.02083 -0.25827 -0.02639 -0.22706 -0.02378 -0.28532 C -0.02708 -0.30313 -0.02656 -0.3237 -0.0349 -0.33827 C -0.05278 -0.36925 -0.07691 -0.38012 -0.10486 -0.38474 C -0.17309 -0.37989 -0.24305 -0.3859 -0.30799 -0.35307 C -0.32465 -0.34474 -0.33976 -0.3318 -0.35555 -0.32116 C -0.37986 -0.27746 -0.37378 -0.29688 -0.38108 -0.26844 C -0.37899 -0.2585 -0.3776 -0.24833 -0.37465 -0.23885 C -0.36823 -0.21896 -0.31233 -0.17919 -0.29844 -0.1711 C -0.28003 -0.16023 -0.25833 -0.16578 -0.23819 -0.16486 C -0.22222 -0.16833 -0.20608 -0.17041 -0.19045 -0.1755 C -0.16198 -0.18474 -0.13316 -0.23885 -0.12378 -0.2726 C -0.1224 -0.28417 -0.11788 -0.29758 -0.12865 -0.3022 C -0.22656 -0.29827 -0.31649 -0.26128 -0.4 -0.19237 C -0.41684 -0.15492 -0.41493 -0.16717 -0.3842 -0.1311 C -0.37257 -0.11746 -0.35486 -0.117 -0.33976 -0.11191 C -0.30833 -0.10128 -0.27517 -0.10544 -0.24288 -0.10359 C -0.20382 -0.10983 -0.16458 -0.11492 -0.12552 -0.12255 C -0.08854 -0.12995 -0.0559 -0.15584 -0.02066 -0.1711 C 0.00243 -0.20185 0.00695 -0.20162 0.01424 -0.24093 C 0.01267 -0.25226 0.01267 -0.26405 0.00955 -0.27469 C 0.00365 -0.29457 -0.01337 -0.30729 -0.02708 -0.31492 C -0.04826 -0.31145 -0.06927 -0.30752 -0.09045 -0.30428 C -0.09635 -0.30336 -0.10243 -0.30474 -0.10799 -0.3022 C -0.14462 -0.28532 -0.20347 -0.25457 -0.22552 -0.20925 C -0.23142 -0.197 -0.23611 -0.18382 -0.24132 -0.1711 C -0.23976 -0.1563 -0.24132 -0.14035 -0.23663 -0.12671 C -0.22135 -0.08278 -0.16163 -0.0259 -0.12865 -0.01688 C -0.10573 -0.01064 -0.08194 -0.00925 -0.05885 -0.00417 C -0.04965 -0.00208 -0.0408 0.00161 -0.03177 0.00439 C 0.02379 0.00161 0.07969 0.00393 0.1349 -0.00417 C 0.1901 -0.01226 0.22604 -0.06821 0.24288 -0.13318 C 0.24028 -0.18798 0.24705 -0.2148 0.21736 -0.24948 C 0.2099 -0.25827 0.19392 -0.25781 0.18403 -0.25989 C 0.16129 -0.25642 0.13802 -0.25665 0.1158 -0.24948 C 0.09809 -0.24393 0.0651 -0.22197 0.0651 -0.22197 C 0.05087 -0.20625 0.0408 -0.20162 0.03802 -0.1755 C 0.04861 -0.12902 0.05226 -0.10289 0.09045 -0.0844 C 0.10208 -0.07885 0.12535 -0.06752 0.12535 -0.06752 C 0.13385 -0.07029 0.14323 -0.07029 0.1507 -0.07607 C 0.15486 -0.07931 0.17257 -0.11284 0.17622 -0.12047 C 0.17847 -0.12532 0.18056 -0.13018 0.18247 -0.13526 C 0.18316 -0.13734 0.18559 -0.14104 0.18403 -0.14151 C 0.18073 -0.14243 0.1776 -0.13873 0.17448 -0.13734 C 0.15712 -0.12162 0.13698 -0.10151 0.12535 -0.07815 C 0.12431 -0.0726 0.1224 -0.06706 0.12222 -0.06128 C 0.12188 -0.05341 0.12135 -0.04509 0.12379 -0.03792 C 0.13038 -0.01896 0.15174 -0.02012 0.16337 -0.01896 C 0.19844 -0.02451 0.20799 -0.02128 0.23958 -0.0444 C 0.25434 -0.05503 0.26649 -0.07099 0.2809 -0.08232 C 0.29097 -0.11122 0.31354 -0.17018 0.27622 -0.18382 C 0.26788 -0.18682 0.2592 -0.18821 0.2507 -0.19029 C 0.22743 -0.18891 0.20399 -0.19029 0.1809 -0.1859 C 0.13455 -0.17734 0.09323 -0.14451 0.05556 -0.10983 C 0.03785 -0.0763 0.07066 -0.04671 0.09201 -0.04 C 0.09983 -0.03746 0.10781 -0.03584 0.1158 -0.03376 C 0.12535 -0.03515 0.13507 -0.03492 0.14445 -0.03792 C 0.14861 -0.03931 0.15243 -0.04255 0.15556 -0.04648 C 0.15885 -0.05064 0.16337 -0.06128 0.16337 -0.06128 C 0.16372 -0.06266 0.16667 -0.07677 0.16667 -0.07815 C 0.16667 -0.08948 0.16684 -0.10081 0.1651 -0.11191 C 0.16337 -0.12278 0.1349 -0.12995 0.13177 -0.1311 C 0.1 -0.12856 0.0658 -0.13734 0.03646 -0.12047 C 0.0283 -0.11561 0.01997 -0.11052 0.01267 -0.10359 C 0.00712 -0.09827 -0.00156 -0.0844 -0.00156 -0.0844 C 0.0007 -0.05711 0.00747 -0.05619 0.02691 -0.04856 C 0.07153 -0.03122 0.10347 -0.02867 0.1507 -0.02521 C 0.18715 -0.02659 0.22379 -0.02567 0.26024 -0.0296 C 0.28368 -0.03214 0.3066 -0.04162 0.33004 -0.0444 C 0.34931 -0.05896 0.35521 -0.05943 0.3651 -0.08232 C 0.36406 -0.09087 0.36476 -0.10012 0.36181 -0.10775 C 0.35868 -0.11607 0.35208 -0.12162 0.34757 -0.12879 C 0.33333 -0.15122 0.31389 -0.1755 0.29201 -0.18382 C 0.26042 -0.19584 0.26372 -0.19237 0.22691 -0.19445 C 0.17326 -0.18682 0.09688 -0.1859 0.05399 -0.1311 C 0.04531 -0.12 0.03802 -0.10706 0.03004 -0.09503 C 0.02639 -0.08301 0.01962 -0.07214 0.01892 -0.05919 C 0.01788 -0.04 0.02118 -0.02058 0.02535 -0.00208 C 0.02674 0.00416 0.0316 0.00809 0.0349 0.01271 C 0.06563 0.05572 0.09757 0.09086 0.14445 0.09942 C 0.15799 0.10196 0.17188 0.10219 0.18559 0.10358 C 0.19462 0.10081 0.20469 0.10173 0.21267 0.09526 C 0.22031 0.08901 0.23351 0.06589 0.24115 0.05294 C 0.24375 0.04023 0.24931 0.02797 0.24913 0.01479 C 0.24861 -0.03492 0.24288 -0.12324 0.2158 -0.16902 C 0.21076 -0.17758 0.20382 -0.18405 0.19844 -0.19237 C 0.18646 -0.21064 0.20417 -0.19885 0.17778 -0.2155 C 0.15695 -0.22891 0.12639 -0.22798 0.10469 -0.23029 C 0.04618 -0.22336 -0.01458 -0.20393 -0.06823 -0.1711 C -0.1033 -0.14983 -0.14184 -0.1274 -0.1651 -0.0844 C -0.16667 -0.07538 -0.1717 -0.06613 -0.16996 -0.05711 C -0.16892 -0.05133 -0.15104 -0.01665 -0.14288 -0.01041 C -0.09375 0.02774 -0.06007 0.03167 -0.0033 0.04231 C 0.08438 0.03884 0.08663 0.05109 0.15399 0.01687 C 0.17326 0.00716 0.18507 -0.02012 0.20156 -0.03584 C 0.22622 -0.10382 0.21945 -0.07214 0.22691 -0.12879 C 0.22795 -0.14636 0.23438 -0.18497 0.22066 -0.19654 C 0.21736 -0.19931 0.20104 -0.20555 0.1967 -0.20717 C 0.07066 -0.20347 -0.01875 -0.19584 -0.14288 -0.1607 C -0.18854 -0.14775 -0.27778 -0.11191 -0.27778 -0.11191 C -0.29045 -0.09919 -0.30365 -0.08717 -0.31597 -0.07399 C -0.31753 -0.07237 -0.3191 -0.07006 -0.3191 -0.06752 C -0.3191 -0.02266 -0.26528 -0.01295 -0.23976 -0.01041 C -0.1 -0.02636 -0.1118 0.00323 -0.02865 -0.07399 C -0.01163 -0.08971 0.00226 -0.10937 0.01267 -0.13318 C 0.01424 -0.14151 0.01719 -0.14983 0.01736 -0.15839 C 0.01858 -0.20208 0.000699999999999999 -0.21688 -0.02708 -0.22405 C -0.10746 -0.22058 -0.18351 -0.19492 -0.26198 -0.17318 C -0.28108 -0.16162 -0.3059 -0.15099 -0.31597 -0.12463 C -0.30955 -0.11191 -0.30538 -0.09688 -0.29687 -0.08671 C -0.29184 -0.0807 -0.28437 -0.08 -0.27778 -0.07815 C -0.25312 -0.07099 -0.22812 -0.06544 -0.2033 -0.05919 C -0.16146 -0.06128 -0.11944 -0.06104 -0.07778 -0.06544 C -0.03003 -0.07029 0.01528 -0.09457 0.06181 -0.10983 C 0.12379 -0.15399 0.1257 -0.14151 0.15556 -0.20509 C 0.16372 -0.24856 0.13958 -0.28208 0.11267 -0.30012 C 0.09774 -0.31006 0.07691 -0.30867 0.06024 -0.31076 C 0.01649 -0.30497 -0.11458 -0.30706 -0.15712 -0.24717 C -0.1599 -0.22659 -0.15799 -0.22012 -0.14132 -0.20717 C -0.10868 -0.18151 -0.07812 -0.17711 -0.04132 -0.16902 C 0.02934 -0.17272 0.14254 -0.16717 0.17448 -0.27469 C 0.17396 -0.28185 0.17448 -0.28925 0.17292 -0.29596 C 0.17083 -0.30497 0.15955 -0.30867 0.15399 -0.31076 C 0.12153 -0.32347 0.13837 -0.31977 0.11267 -0.32347 C 0.01649 -0.32232 -0.05121 -0.33526 -0.13819 -0.3022 C -0.15851 -0.29457 -0.1783 -0.2837 -0.19687 -0.27052 C -0.20816 -0.26243 -0.22708 -0.23885 -0.22708 -0.23885 C -0.225 -0.23168 -0.225 -0.22243 -0.22066 -0.21758 C -0.20191 -0.1963 -0.17569 -0.20185 -0.15399 -0.2007 C -0.12708 -0.20486 -0.09983 -0.2074 -0.07309 -0.21341 C -0.02552 -0.22405 0.03767 -0.27607 0.06337 -0.33388 C 0.06233 -0.34382 0.0625 -0.35399 0.06024 -0.36347 C 0.05625 -0.37989 0.02274 -0.38197 0.0158 -0.38266 C -0.05486 -0.37526 -0.10243 -0.36879 -0.15712 -0.31284 C -0.1783 -0.26382 -0.17326 -0.23445 -0.13663 -0.19862 C -0.09219 -0.15515 -0.06354 -0.13249 -0.00955 -0.12463 C 0.02379 -0.12879 0.05729 -0.13133 0.09045 -0.13734 C 0.09601 -0.13827 0.10104 -0.14266 0.10625 -0.1459 C 0.15833 -0.17804 0.18056 -0.19445 0.21111 -0.25989 C 0.21267 -0.27815 0.21337 -0.28948 0.20469 -0.30428 C 0.14323 -0.29688 0.09323 -0.27862 0.03646 -0.24093 C 0.00556 -0.22035 -0.02899 -0.20671 -0.05555 -0.17758 C -0.08941 -0.14035 -0.11597 -0.11723 -0.13021 -0.05919 C -0.12865 -0.04578 -0.12812 -0.03214 -0.12552 -0.01896 C -0.11771 0.01965 -0.06858 0.03953 -0.04444 0.05086 C -0.02483 0.04948 -0.00503 0.05133 0.01424 0.04647 C 0.03351 0.04161 0.05052 0.02635 0.06979 0.02127 C 0.07934 0.01271 0.08924 0.00508 0.09844 -0.00417 C 0.10885 -0.0148 0.12847 -0.03792 0.12847 -0.03792 C 0.1316 -0.04578 0.13976 -0.05272 0.13802 -0.06128 C 0.13594 -0.07122 0.13629 -0.08255 0.13177 -0.09087 C 0.12778 -0.09827 0.12014 -0.10081 0.11424 -0.10567 C 0.09201 -0.12463 0.06701 -0.12763 0.04115 -0.1311 C 0.02639 -0.13318 0.01146 -0.13388 -0.0033 -0.13526 C -0.05833 -0.13018 -0.13108 -0.14914 -0.16667 -0.07815 C -0.16562 -0.0696 -0.16615 -0.06058 -0.16354 -0.05272 C -0.13819 0.02104 -0.04444 0.02335 0.00469 0.02751 C 0.05243 0.0252 0.12188 0.03722 0.15399 -0.02521 C 0.15174 -0.03492 0.15226 -0.04671 0.14757 -0.0548 C 0.12413 -0.09619 0.07431 -0.09596 0.04115 -0.09919 C -0.07812 -0.09734 -0.06944 -0.1163 -0.14132 -0.07399 C -0.14392 -0.06914 -0.14792 -0.06497 -0.1493 -0.05919 C -0.15121 -0.05087 -0.14722 -0.04417 -0.14288 -0.04 C -0.11233 -0.01087 -0.10035 -0.00532 -0.06198 0.00208 C -0.04305 0.00578 -0.02396 0.00786 -0.00486 0.01063 C 0.04757 0.00994 0.09983 0.01063 0.15226 0.00855 C 0.15417 0.00855 0.14931 0.00531 0.14757 0.00439 C 0.14028 0.00092 0.13281 -0.00139 0.12535 -0.00417 C 0.11823 -0.00694 0.11059 -0.00555 0.10313 -0.00625 C 0.06667 -0.0222 -0.03871 -0.00763 0.05556 -0.02521 C 0.06181 -0.02636 0.06823 -0.02682 0.07448 -0.02752 C 0.12639 -0.04139 0.16771 -0.05064 0.21736 -0.06128 C 0.2257 -0.06497 0.23455 -0.0659 0.24288 -0.0696 C 0.24427 -0.07029 0.24757 -0.07422 0.24601 -0.07399 C 0.23212 -0.07191 0.225 -0.06474 0.21267 -0.05711 C 0.20208 -0.05041 0.19149 -0.04139 0.1809 -0.03584 C 0.17465 -0.0326 0.16806 -0.03076 0.16181 -0.02752 C 0.16233 -0.02474 0.16198 -0.02128 0.16337 -0.01896 C 0.16597 -0.01457 0.17361 -0.01919 0.16337 -0.0148 C 0.14913 -0.01711 0.13663 -0.02336 0.12222 -0.02521 C 0.11163 -0.02659 0.10104 -0.02682 0.09045 -0.02752 C 0.09635 -0.03214 0.10139 -0.03723 0.10781 -0.04 C 0.10729 -0.04208 0.10781 -0.04532 0.10625 -0.04648 C 0.10243 -0.04925 0.09705 -0.03654 0.0967 -0.03584 C 0.09618 -0.03376 0.09497 -0.03168 0.09514 -0.0296 C 0.09549 -0.02521 0.09896 -0.02128 0.09844 -0.01688 C 0.09826 -0.01457 0.09514 -0.0155 0.09358 -0.0148 C 0.09149 -0.01411 0.08941 -0.01341 0.08733 -0.01272 C 0.08385 -0.02497 0.09254 -0.02613 0.10156 -0.0296 C 0.11354 -0.03399 0.12604 -0.03607 0.13802 -0.04 C 0.12951 -0.01734 0.11441 -0.00162 0.10625 0.02127 C 0.09809 0.04439 0.08247 0.09086 0.08247 0.09086 C 0.08038 0.10774 0.0809 0.12508 0.07778 0.14173 C 0.07934 0.14797 0.07847 0.15653 0.08247 0.16069 C 0.08507 0.16346 0.08889 0.15815 0.09201 0.15653 C 0.09635 0.15445 0.10052 0.15214 0.10469 0.15005 C 0.11823 0.1267 0.1349 0.10959 0.14757 0.08462 C 0.16476 0.05086 0.17413 0.01618 0.1809 -0.02313 C 0.17726 -0.05203 0.17639 -0.08185 0.16979 -0.10983 C 0.16806 -0.117 0.16267 -0.1244 0.15712 -0.12463 C 0.14254 -0.12509 0.12847 -0.11607 0.11424 -0.11191 C 0.09201 -0.09526 0.11007 -0.11076 0.0809 -0.07191 C 0.07326 -0.06174 0.06424 -0.05318 0.05712 -0.04232 C 0.05347 -0.03677 0.05226 -0.02914 0.04913 -0.02313 C 0.04167 -0.00856 0.02535 0.01919 0.02535 0.01919 C 0.02222 0.03052 0.01736 0.04115 0.0158 0.05294 C 0.0099 0.09803 0.04514 0.11815 0.07135 0.12693 C 0.0783 0.12555 0.08524 0.12485 0.09201 0.12277 C 0.10295 0.1193 0.11163 0.1082 0.12066 0.09942 C 0.15035 0.07098 0.16649 0.03052 0.1809 -0.01272 C 0.18646 -0.05688 0.18924 -0.11422 0.14913 -0.12463 C 0.10243 -0.11908 0.06719 -0.07006 0.03646 -0.02752 C 0.02448 -0.0111 0.0099 0.00254 0 0.02127 C -0.01042 0.04115 -0.02378 0.0867 -0.02378 0.0867 C -0.02621 0.11075 -0.02917 0.13063 -0.02222 0.15653 C -0.00781 0.20994 0.0434 0.2326 0.0809 0.23884 C 0.09097 0.23607 0.10104 0.23375 0.11111 0.23052 C 0.11441 0.22959 0.11823 0.22936 0.12066 0.22635 C 0.13212 0.21294 0.15226 0.18196 0.15226 0.18196 C 0.15851 0.16277 0.16146 0.14242 0.16667 0.12277 C 0.16563 0.0904 0.16476 0.0578 0.16337 0.02543 C 0.1632 0.01988 0.16337 0.01387 0.16181 0.00855 C 0.15764 -0.00486 0.15156 -0.01711 0.14601 -0.0296 C 0.12483 -0.077 0.12049 -0.08255 0.08247 -0.09919 C 0.06441 -0.09642 0.04549 -0.09896 0.02847 -0.09087 C 0.0092 -0.08162 -0.00694 -0.06382 -0.02378 -0.04856 C -0.06892 -0.00763 -0.12552 0.04092 -0.1493 0.11005 C -0.1559 0.12924 -0.16094 0.14959 -0.16667 0.16924 C -0.17465 0.23075 -0.16753 0.27329 -0.13177 0.31514 C -0.12917 0.31815 -0.12691 0.32208 -0.12378 0.32346 C -0.11771 0.32624 -0.11111 0.32624 -0.10486 0.32763 C -0.09687 0.32555 -0.08889 0.32416 -0.08108 0.32138 C -0.06667 0.31607 -0.05729 0.29664 -0.04774 0.28115 C -0.03333 0.2578 -0.02621 0.23768 -0.0191 0.20924 C -0.01753 0.16716 -0.01649 0.14196 -0.03663 0.10797 C -0.04184 0.09942 -0.05121 0.09757 -0.05885 0.09318 C -0.0816 0.10011 -0.10503 0.10404 -0.12708 0.11422 C -0.16615 0.13225 -0.20573 0.17849 -0.22865 0.22196 C -0.23767 0.23884 -0.24826 0.25456 -0.25555 0.27283 C -0.26371 0.29294 -0.27465 0.33618 -0.27465 0.33618 C -0.27569 0.35375 -0.27639 0.37156 -0.27778 0.38913 C -0.27847 0.39838 -0.27969 0.4074 -0.28108 0.41641 C -0.28142 0.41872 -0.28125 0.4215 -0.28264 0.42289 C -0.28437 0.42474 -0.2868 0.42427 -0.28889 0.42497 C -0.29948 0.41133 -0.31024 0.40393 -0.3191 0.38682 C -0.35035 0.3267 -0.36285 0.25479 -0.39045 0.19237 C -0.40174 0.12809 -0.41059 0.06589 -0.41441 0 C -0.41354 -0.01919 -0.41788 -0.0444 -0.40156 -0.05272 C -0.39757 -0.0548 -0.39305 -0.05573 -0.38889 -0.05711 C -0.3467 -0.03931 -0.35764 -0.04093 -0.3191 0 C -0.31424 0.00508 -0.30833 0.00786 -0.3033 0.01271 C -0.28559 0.02982 -0.26788 0.04716 -0.25087 0.06566 C -0.19653 0.12485 -0.17899 0.14682 -0.13333 0.20924 C -0.10799 0.24393 -0.07795 0.30289 -0.03819 0.30867 C -0.03281 0.30589 -0.02691 0.30474 -0.02222 0.30034 C -0.00486 0.28393 0.01684 0.24901 0.02535 0.22196 C 0.04427 0.16185 0.02674 0.20555 0.04115 0.17133 C 0.04583 0.11422 0.05799 0.01387 0.01267 -0.02104 C -0.00642 -0.03584 0.00573 -0.02821 -0.02552 -0.03792 C -0.04514 -0.03723 -0.06493 -0.04047 -0.0842 -0.03584 C -0.14774 -0.02058 -0.19479 0.04069 -0.22708 0.11005 C -0.22656 0.12208 -0.22743 0.1341 -0.22552 0.14589 C -0.21736 0.19815 -0.13212 0.21063 -0.10799 0.21572 C -0.07049 0.21086 -0.03246 0.20971 0.00469 0.20092 C 0.05347 0.18936 0.14913 0.15445 0.14913 0.15445 C 0.20504 0.11306 0.24774 0.08601 0.28559 0.01687 C 0.29618 -0.0296 0.3099 -0.08162 0.28403 -0.12671 C 0.27743 -0.13827 0.26458 -0.16185 0.25399 -0.16902 C 0.24792 -0.17295 0.2349 -0.17758 0.2349 -0.17758 C 0.17986 -0.16116 0.12257 -0.11607 0.07934 -0.06752 C 0.06042 -0.04625 0.03854 -0.02775 0.02535 0 C 0.01858 0.0141 0.01372 0.02959 0.00781 0.04439 C 0.00938 0.05919 0.00764 0.07537 0.01267 0.08878 C 0.01771 0.10219 0.02691 0.11283 0.03646 0.12046 C 0.10365 0.17456 0.12083 0.16901 0.19844 0.17341 C 0.30278 0.15445 0.37622 0.1445 0.45556 0.05086 C 0.46597 0.03838 0.48472 -0.01087 0.48733 -0.01688 C 0.48958 -0.0326 0.4941 -0.05989 0.49358 -0.07399 C 0.49306 -0.08763 0.49028 -0.10104 0.48733 -0.11399 C 0.47622 -0.16162 0.43767 -0.17249 0.40625 -0.17758 C 0.31458 -0.16417 0.31788 -0.17041 0.22691 -0.13318 C 0.18351 -0.11538 0.14618 -0.07746 0.10625 -0.04856 C 0.06892 -0.02151 0.06424 -0.01365 0.04288 0.01479 C 0.03976 0.02404 0.03403 0.03214 0.03333 0.04231 C 0.03212 0.06196 0.04115 0.06774 0.0507 0.07607 C 0.10122 0.1193 0.09705 0.1126 0.15868 0.12277 C 0.20399 0.11491 0.23681 0.12092 0.26979 0.08046 C 0.2757 0.07329 0.27934 0.06358 0.28403 0.05503 C 0.29219 -0.02243 0.2316 -0.06382 0.18889 -0.09503 C 0.16754 -0.11076 0.14601 -0.12602 0.12379 -0.13943 C 0.11458 -0.14497 0.10469 -0.14798 0.09514 -0.15214 C 0.08941 -0.15145 0.08333 -0.15214 0.07778 -0.15006 C 0.06354 -0.14497 0.04844 -0.10659 0.04115 -0.09295 C 0.02917 -0.07052 0.0099 -0.0437 0.00313 -0.01688 C 0.00469 -0.01133 0.00434 -0.0037 0.00781 0 C 0.03733 0.03052 0.09392 0.00208 0.11736 -0.00208 C 0.2559 -0.06197 0.28872 -0.06798 0.41267 -0.19029 C 0.4632 -0.24 0.46927 -0.24 0.49514 -0.3022 C 0.49618 -0.31284 0.49844 -0.32324 0.49844 -0.33388 C 0.49844 -0.35237 0.47083 -0.37873 0.46823 -0.38035 C 0.42483 -0.4081 0.42708 -0.40532 0.37778 -0.40786 C 0.35608 -0.40578 0.33403 -0.40763 0.31267 -0.40162 C 0.29115 -0.39561 0.27118 -0.38266 0.2507 -0.37203 C 0.19688 -0.34405 0.14983 -0.32833 0.11892 -0.26197 C 0.11632 -0.24648 0.10747 -0.21457 0.11892 -0.2007 C 0.12344 -0.19515 0.12847 -0.19076 0.13333 -0.1859 C 0.1349 -0.18451 0.13611 -0.1822 0.13802 -0.18174 C 0.14375 -0.18012 0.14965 -0.18035 0.15556 -0.17966 C 0.175 -0.18659 0.19445 -0.19052 0.21111 -0.20717 C 0.22066 -0.21665 0.23646 -0.24093 0.23646 -0.24093 C 0.24757 -0.28532 0.21406 -0.3207 0.18403 -0.32555 C 0.11806 -0.3563 0.10504 -0.34081 0.01267 -0.33596 C -0.04601 -0.31977 -0.10208 -0.30983 -0.16042 -0.29388 C -0.19427 -0.27122 -0.1868 -0.28671 -0.19531 -0.26428 C -0.19167 -0.2585 -0.18924 -0.25041 -0.1842 -0.24717 C -0.16267 -0.2333 -0.15052 -0.23307 -0.13021 -0.23029 C -0.07257 -0.237 -0.01962 -0.23029 0.03004 -0.26844 C 0.02379 -0.30243 0.00469 -0.31607 -0.01753 -0.3318 C -0.03854 -0.34659 -0.0592 -0.35954 -0.08264 -0.36555 C -0.13038 -0.36393 -0.1434 -0.36717 -0.18264 -0.35076 C -0.1868 -0.34659 -0.19149 -0.34289 -0.19531 -0.33827 C -0.1967 -0.33665 -0.2 -0.33341 -0.19844 -0.3318 C -0.16944 -0.30336 -0.13958 -0.30775 -0.10486 -0.30636 C -0.07847 -0.30775 -0.05174 -0.30636 -0.02552 -0.31076 C -0.00121 -0.31492 0.02205 -0.32555 0.04583 -0.3318 C 0.05122 -0.33318 0.0566 -0.33318 0.06181 -0.33388 C 0.07795 -0.34613 0.08524 -0.34729 0.09358 -0.36555 C 0.08177 -0.38428 0.08316 -0.3822 0.06337 -0.38682 C 0.01458 -0.38521 -0.0118 -0.38359 -0.05712 -0.37411 C -0.08507 -0.36833 -0.11042 -0.36671 -0.13333 -0.34243 C -0.1217 -0.32347 -0.1224 -0.3281 -0.1033 -0.32555 C -0.09028 -0.32717 -0.07639 -0.32671 -0.06354 -0.3318 C -0.0566 -0.33457 -0.04288 -0.34035 -0.04288 -0.34035 C -0.03385 -0.35839 -0.06354 -0.36023 -0.06996 -0.36347 C -0.07413 -0.36555 -0.07812 -0.36879 -0.08264 -0.36995 C -0.09305 -0.37249 -0.10382 -0.37295 -0.11441 -0.37411 C -0.12865 -0.37573 -0.14288 -0.37688 -0.15712 -0.37827 C -0.18837 -0.37758 -0.21962 -0.37873 -0.25087 -0.37619 C -0.25312 -0.37596 -0.25521 -0.37295 -0.25555 -0.36995 C -0.2566 -0.36162 -0.24444 -0.36093 -0.23819 -0.35931 C -0.22969 -0.357 -0.21267 -0.35307 -0.21267 -0.35307 C -0.18264 -0.35561 -0.13958 -0.35538 -0.17621 -0.36347 C -0.19427 -0.37804 -0.17674 -0.36578 -0.21441 -0.37619 C -0.25087 -0.38636 -0.2868 -0.39492 -0.32378 -0.40162 C -0.33507 -0.40578 -0.35851 -0.41642 -0.36667 -0.4037 C -0.37187 -0.39561 -0.35243 -0.39284 -0.34444 -0.39099 C -0.33229 -0.38821 -0.30799 -0.38266 -0.30799 -0.38266 C -0.26875 -0.38613 -0.22951 -0.38867 -0.19045 -0.39307 C -0.17378 -0.39492 -0.17604 -0.39168 -0.17309 -0.4037 C -0.18055 -0.41388 -0.18333 -0.41596 -0.19375 -0.42058 C -0.20868 -0.41619 -0.21528 -0.41272 -0.22378 -0.39515 C -0.22222 -0.38821 -0.2224 -0.37989 -0.2191 -0.37411 C -0.21667 -0.36995 -0.2118 -0.36948 -0.20799 -0.36786 C -0.13958 -0.33758 -0.16684 -0.34775 -0.0842 -0.33827 C 0.03056 -0.34313 0.07882 -0.32786 0.1651 -0.36555 C 0.12691 -0.4 0.07292 -0.37018 0.02691 -0.36786 C -0.0349 -0.34821 -0.09618 -0.34197 -0.13663 -0.27052 C -0.14201 -0.24116 -0.10295 -0.20347 -0.08889 -0.19237 C -0.00503000000000001 -0.12602 0.06441 -0.08971 0.16181 -0.08023 C 0.17083 -0.08162 0.18004 -0.08232 0.18889 -0.0844 C 0.19167 -0.08509 0.19601 -0.08509 0.1967 -0.08879 C 0.19879 -0.09989 0.17222 -0.12347 0.1651 -0.12879 C 0.14514 -0.14405 0.12535 -0.15977 0.10469 -0.17318 C 0.0125 -0.2326 0.00139 -0.2326 -0.09687 -0.24717 C -0.14444 -0.24625 -0.20972 -0.26151 -0.25399 -0.22197 C -0.25746 -0.20786 -0.24288 -0.20255 -0.2349 -0.19862 C -0.2217 -0.19214 -0.20885 -0.18451 -0.19531 -0.17966 C -0.1158 -0.15168 -0.03264 -0.13619 0.04913 -0.12671 C 0.05451 -0.12532 0.05972 -0.1237 0.0651 -0.12255 C 0.06927 -0.12162 0.0809 -0.1244 0.07778 -0.12047 C 0.07344 -0.11492 0.06615 -0.11769 0.06024 -0.1163 C -0.02378 -0.1244 -0.10799 -0.13457 -0.19219 -0.12879 C -0.14896 -0.11492 -0.18333 -0.12717 -0.09531 -0.0696 C -0.00398999999999999 -0.00971 0.12413 0.03352 0.22222 0.06358 C 0.27205 0.07884 0.32188 0.1015 0.37292 0.1015 C 0.3783 0.1015 0.36233 0.09942 0.35712 0.09734 C 0.3316 0.0867 0.31649 0.0763 0.29201 0.06774 C 0.23698 0.04855 0.20174 0.04023 0.14601 0.03607 C 0.12379 0.03838 0.12344 0.03514 0.10781 0.05294 C 0.10833 0.06219 0.10729 0.07167 0.10955 0.08046 C 0.11267 0.09271 0.1184 0.10335 0.12379 0.11422 C 0.14167 0.15029 0.16754 0.19537 0.2 0.20924 C 0.19531 0.18427 0.13681 0.13641 0.12379 0.12693 C 0.08854 0.10127 0.05191 0.07884 0.0158 0.05503 C -0.00694 0.04 -0.02882 0.02242 -0.05243 0.01063 C -0.07674 -0.00162 -0.09861 -0.01434 -0.12066 -0.03376 C -0.12951 -0.05156 -0.13003 -0.0481 -0.09045 -0.0548 C -0.04861 -0.06197 -0.00694 -0.06891 0.0349 -0.07607 C 0.05608 -0.07977 0.07691 -0.08648 0.09844 -0.08879 C 0.1 -0.08948 0.10434 -0.09226 0.10313 -0.09087 C 0.09948 -0.08648 0.08663 -0.08324 0.08403 -0.08232 C 0.075 -0.07954 0.06615 -0.07677 0.05712 -0.07399 C 0.02587 -0.05388 -0.00555 -0.03538 -0.03663 -0.0148 C -0.05069 0.00393 -0.06701 0.01942 -0.08108 0.03815 C -0.09132 0.05202 -0.0941 0.07306 -0.1 0.09086 C -0.09687 0.11283 -0.09531 0.13526 -0.09045 0.15653 C -0.08941 0.16138 -0.08559 0.16416 -0.08264 0.16716 C -0.075 0.17526 -0.06649 0.18219 -0.05885 0.19029 C -0.0368 0.21341 -0.08368 0.18266 -0.02066 0.21156 C 0.00885 0.22497 0.02517 0.2289 0.05556 0.2326 C 0.0566 0.23052 0.05903 0.2289 0.05868 0.22635 C 0.05729 0.21687 0.04826 0.19838 0.04115 0.19445 C 0.03767 0.1926 0.03368 0.19306 0.03004 0.19237 C 0.02743 0.19029 0.025 0.18797 0.02222 0.18612 C 0.02066 0.1852 0.01632 0.18589 0.01736 0.18404 C 0.02083 0.17757 0.03142 0.17664 0.03646 0.17549 C 0.10868 0.17803 0.17274 0.18566 0.24601 0.18404 C 0.23212 0.17849 0.20538 0.16092 0.19514 0.15445 C 0.19063 0.15167 0.18733 0.14543 0.18247 0.14381 C 0.14497 0.13063 0.1059 0.13202 0.06823 0.12046 C 0.05017 0.12115 0.03177 0.11745 0.01424 0.12277 C 0.00295 0.12624 -0.01597 0.14589 -0.01597 0.14589 C -0.01892 0.1519 -0.03073 0.17318 -0.03177 0.18196 C -0.03212 0.18497 -0.02969 0.18751 -0.02865 0.19029 C 0.00052 0.17896 0.02188 0.15121 0.04757 0.13109 C 0.17031 0.03491 0.03924 0.14104 0.14445 0.04647 C 0.18004 0.01433 0.16024 0.05156 0.20781 -0.01041 C 0.22656 -0.03492 0.24063 -0.06798 0.25226 -0.09919 C 0.25122 -0.10914 0.25104 -0.11908 0.24913 -0.12879 C 0.24306 -0.15815 0.2099 -0.16093 0.19358 -0.16486 C 0.1809 -0.16417 0.16823 -0.16463 0.15556 -0.16278 C 0.14948 -0.16185 0.14358 -0.15977 0.13802 -0.1563 C 0.11285 -0.14081 0.04028 -0.09665 0.02066 -0.05919 C 0.0151 -0.04856 0.01111 -0.03654 0.00625 -0.02521 C 0.00677 -0.01318 0.00451 -0.00047 0.00781 0.01063 C 0.02118 0.05618 0.03611 0.05572 0.06667 0.07838 C 0.08993 0.09595 0.11406 0.11977 0.14115 0.12485 C 0.16111 0.12855 0.18142 0.12832 0.20156 0.13109 C 0.21059 0.12901 0.21997 0.12924 0.22847 0.12485 C 0.24236 0.11768 0.24792 0.10659 0.25399 0.09086 C 0.25243 0.07953 0.25347 0.06705 0.24913 0.05711 C 0.23941 0.03514 0.2316 0.03098 0.21736 0.02543 C 0.1691 0.0067 0.13611 0.00531 0.08403 0.00208 C 0.00833 0.00346 -0.06736 0.00161 -0.14288 0.00647 C -0.15608 0.0074 -0.1684 0.01503 -0.18108 0.01919 C -0.18368 0.02011 -0.18628 0.02034 -0.18889 0.02127 C -0.19062 0.02173 -0.19375 0.02566 -0.19375 0.02335 C -0.19375 0.01734 -0.18542 0.01849 -0.18108 0.01687 C -0.17569 0.01503 -0.17031 0.01294 -0.1651 0.01063 C -0.07847 -0.0259 -0.14201 -0.00278 -0.08108 -0.02104 C 0.00608 -0.0474 0.07083 -0.07746 0.15226 -0.12671 C 0.15764 -0.13388 0.16285 -0.14081 0.16823 -0.14798 C 0.17066 -0.15122 0.16754 -0.15769 0.1651 -0.1607 C 0.1592 -0.1681 0.15243 -0.17711 0.14445 -0.17758 C 0.09844 -0.18058 0.12326 -0.17873 0.06979 -0.18382 C 0.06493 -0.18313 -0.01684 -0.1755 -0.04288 -0.16278 C -0.07569 -0.14682 -0.10486 -0.12602 -0.1349 -0.10359 C -0.13646 -0.10012 -0.13976 -0.09711 -0.13976 -0.09295 C -0.13976 -0.07307 -0.11736 -0.07677 -0.10642 -0.07191 C -0.01701 -0.09203 0.03681 -0.07445 0.08403 -0.16486 C 0.08507 -0.17041 0.08733 -0.17596 0.08733 -0.18174 C 0.08733 -0.2148 0.06458 -0.21827 0.04583 -0.22405 C -0.04375 -0.21341 -0.05417 -0.21827 -0.12378 -0.18174 C -0.15399 -0.14844 -0.14566 -0.16393 -0.15555 -0.14359 C -0.15347 -0.13804 -0.15295 -0.13064 -0.1493 -0.12671 C -0.14549 -0.12255 -0.12535 -0.11607 -0.1191 -0.11399 C -0.04479 -0.12023 -0.01719 -0.11977 0.04583 -0.14151 C 0.07153 -0.15954 0.0783 -0.16232 0.09514 -0.18798 C 0.10399 -0.23607 0.07847 -0.24786 0.0507 -0.25573 C 0.03698 -0.25365 0.02292 -0.25434 0.00955 -0.24948 C -0.02274 -0.23792 -0.06319 -0.2111 -0.09531 -0.19445 C -0.10642 -0.18867 -0.11528 -0.17688 -0.12552 -0.16902 C -0.1441 -0.15469 -0.15885 -0.1459 -0.17153 -0.12255 C -0.1684 -0.11561 -0.16632 -0.10729 -0.16198 -0.10151 C -0.15156 -0.08763 -0.13003 -0.08786 -0.11753 -0.08671 C -0.04913 -0.09943 0.02118 -0.1318 0.07135 -0.19862 C 0.07708 -0.21526 0.08108 -0.22474 0.08403 -0.24093 C 0.07587 -0.26867 0.07153 -0.25758 0.04288 -0.25573 C -0.00972 -0.23006 -0.07951 -0.18359 -0.11111 -0.12047 C -0.11632 -0.09156 -0.07448 -0.10914 -0.06823 -0.10983 C -0.01389 -0.1244 0.03351 -0.13758 0.08889 -0.15422 C 0.14688 -0.1718 0.20295 -0.18382 0.25399 -0.22821 C 0.2625 -0.23561 0.23385 -0.22682 0.22379 -0.22613 C 0.1434 -0.21434 0.06181 -0.18659 -0.01753 -0.16486 C -0.07309 -0.12786 -0.1224 -0.10266 -0.16996 -0.05064 C -0.19462 -0.02359 -0.20035 -0.0185 -0.21111 0.01063 C -0.18924 0.02242 -0.14983 -0.00578 -0.13021 -0.0148 C -0.12604 -0.01896 -0.12222 -0.02405 -0.11753 -0.02752 C -0.10677 -0.03538 -0.09444 -0.03954 -0.0842 -0.04856 C -0.07483 -0.05665 -0.06753 -0.06867 -0.05885 -0.07815 C -0.05642 -0.0807 -0.05347 -0.08232 -0.05087 -0.0844 C -0.0467 -0.09365 -0.04236 -0.10266 -0.03819 -0.11191 C -0.03698 -0.11469 -0.03455 -0.11723 -0.0349 -0.12047 C -0.03663 -0.13781 -0.03976 -0.15492 -0.04444 -0.1711 C -0.05208 -0.19746 -0.05174 -0.18844 -0.06354 -0.19654 C -0.10052 -0.22243 -0.09184 -0.2148 -0.13976 -0.21989 C -0.16771 -0.21411 -0.19583 -0.20948 -0.22378 -0.20278 C -0.26649 -0.19237 -0.30295 -0.14798 -0.33021 -0.10567 C -0.3401 -0.07284 -0.35347 -0.0326 -0.32378 -0.00833 C -0.31996 -0.00509 -0.31528 -0.00417 -0.31111 -0.00208 C -0.30226 -0.00532 -0.29253 -0.00532 -0.2842 -0.01041 C -0.23507 -0.0407 -0.16858 -0.09272 -0.13021 -0.12671 C -0.05851 -0.19052 -0.07552 -0.17203 -0.02865 -0.23677 C -0.02587 -0.25018 -0.02292 -0.25596 -0.03177 -0.26428 C -0.04236 -0.26359 -0.05312 -0.26497 -0.06354 -0.26197 C -0.12361 -0.24463 -0.17621 -0.18359 -0.21111 -0.11839 C -0.20538 -0.10428 -0.20295 -0.08648 -0.19375 -0.07607 C -0.18628 -0.06752 -0.175 -0.06521 -0.1651 -0.06544 C -0.1158 -0.06659 -0.06667 -0.07538 -0.01753 -0.08023 C 0.01163 -0.0881 0.04149 -0.09087 0.06979 -0.10359 C 0.08038 -0.10844 0.09097 -0.11307 0.10156 -0.11839 C 0.11233 -0.1237 0.13333 -0.13526 0.13333 -0.13526 C 0.13594 -0.13804 0.13993 -0.13943 0.14115 -0.14359 C 0.14167 -0.14567 0.1382 -0.1459 0.13646 -0.1459 C 0.10208 -0.14451 0.06771 -0.14151 0.03333 -0.13943 C -0.0151 -0.12671 -0.06319 -0.1126 -0.11111 -0.09711 C -0.11962 -0.09064 -0.13299 -0.08532 -0.13663 -0.07191 C -0.11458 -0.06313 -0.09479 -0.06012 -0.07153 -0.05711 C -0.02344 -0.05989 0.02483 -0.06174 0.07292 -0.06544 C 0.09167 -0.06682 0.12847 -0.07815 0.12847 -0.07815 C 0.13264 -0.08093 0.13993 -0.0807 0.14115 -0.08671 C 0.1434 -0.09781 0.13142 -0.1022 0.12691 -0.10567 C 0.09965 -0.12694 0.08021 -0.1385 0.04757 -0.14798 C 0.04028 -0.15006 0.03281 -0.14937 0.02535 -0.15006 C -0.07882 -0.17919 -0.04288 -0.17619 -0.20156 -0.1563 C -0.21562 -0.15445 -0.24618 -0.11492 -0.25087 -0.10983 C -0.25781 -0.09341 -0.2625 -0.08578 -0.26198 -0.06336 C -0.26076 -0.01642 -0.21719 0.01896 -0.18576 0.02543 C -0.1684 0.0289 -0.15087 0.02682 -0.13333 0.02751 C -0.11701 0.02612 -0.10035 0.02728 -0.0842 0.02335 C -0.06944 0.01988 -0.0559 0.00924 -0.04132 0.00439 C -0.02483 -0.01249 -0.01875 -0.01573 -0.00799 -0.03584 C -0.00903 -0.04648 -0.00868 -0.05734 -0.01111 -0.06752 C -0.01198 -0.07145 -0.01458 -0.07607 -0.01753 -0.07607 C -0.0283 -0.07607 -0.05174 -0.03908 -0.05243 -0.03792 C -0.07274 -0.00116 -0.09531 0.02982 -0.10642 0.07398 C -0.1059 0.07745 -0.10694 0.08254 -0.10486 0.08462 C -0.08767 0.10196 -0.02847 0.09526 -0.02552 0.09526 C 0.08212 0.08161 0.18698 0.06936 0.28733 0.01271 C 0.29201 0.00508 0.29965 -0.000699999999999999 0.30156 -0.01041 C 0.30712 -0.03769 0.25399 -0.07376 0.2507 -0.07607 C 0.23385 -0.0874 0.21771 -0.10081 0.2 -0.10983 C 0.16927 -0.12532 0.13403 -0.13064 0.10156 -0.13734 C 0.09115 -0.13642 0.07135 -0.14081 0.07135 -0.12879 E">
                                      <p:cBhvr>
                                        <p:cTn id="166" dur="2000" fill="hold"/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50200"/>
            <a:ext cx="82296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66ff33"/>
              </a:solidFill>
              <a:latin typeface="French Script M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ff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33"/>
                </a:solidFill>
                <a:latin typeface="Arial"/>
              </a:rPr>
              <a:t>You will be learning about the history of Fort Sumter and the events that took place during the batt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ff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33"/>
                </a:solidFill>
                <a:latin typeface="Arial"/>
              </a:rPr>
              <a:t>Fort Sumter was the first battle of the Civil W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ff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33"/>
                </a:solidFill>
                <a:latin typeface="Arial"/>
              </a:rPr>
              <a:t>The attack was very unexpect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6600"/>
                </a:solidFill>
                <a:latin typeface="Arial"/>
              </a:rPr>
              <a:t>Soldiers in the batt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The battle took place on April 10</a:t>
            </a:r>
            <a:r>
              <a:rPr b="0" lang="en-US" sz="3200" spc="-1" strike="noStrike" baseline="30000">
                <a:solidFill>
                  <a:srgbClr val="ff66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, 186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A total of 580 fought in the battle (80 Union soldiers, 500 Confederacy soldier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5105520" y="1343160"/>
            <a:ext cx="3524040" cy="55148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380880" y="1981080"/>
            <a:ext cx="3657600" cy="421956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cc"/>
                </a:solidFill>
                <a:latin typeface="Arial"/>
              </a:rPr>
              <a:t>Leaders in the batt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Arial"/>
              </a:rPr>
              <a:t>Brig. General Beauregard was in command of the Confederate forces in South Carolina, and lead the atta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Arial"/>
              </a:rPr>
              <a:t>Major Anderson was commanding the Union forces inside the f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auregard demanding that Anderson to surrend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bviously he didn’t and the Confederacy attack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 soon as the first shot was made the Civil War begu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3049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8" dur="1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1" dur="10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4" dur="10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The Confederates first shot was at 4:30 A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The Union troops withheld fire until 7 A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Most of the Union guns were disabled by Confederate fi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The barracks and officer quarters were eventually burnt d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1" dur="2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4" dur="20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inforcements tried to get to the fort but they couldn’t get through the harbor because of a sand b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inforcement ships had food and ammo on 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Union soldiers ran out of food and fire was spreading fa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keep the powder barrels from exploding they had to roll them into the wa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ff"/>
                </a:solidFill>
                <a:latin typeface="Arial"/>
              </a:rPr>
              <a:t>The battle ended at 2 PM the next 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ff"/>
                </a:solidFill>
                <a:latin typeface="Arial"/>
              </a:rPr>
              <a:t>Nobody died in the battle but only a couple of Union officers were injured without serious inju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3T12:05:31Z</dcterms:created>
  <dc:creator>benjaminginscore</dc:creator>
  <dc:description/>
  <dc:language>en-US</dc:language>
  <cp:lastModifiedBy>benjaminginscore</cp:lastModifiedBy>
  <dcterms:modified xsi:type="dcterms:W3CDTF">2009-03-20T12:18:07Z</dcterms:modified>
  <cp:revision>8</cp:revision>
  <dc:subject/>
  <dc:title>Slide 1</dc:title>
</cp:coreProperties>
</file>